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89640" rIns="89640" tIns="45000" bIns="450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89640" rIns="89640"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89640" rIns="8964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1AE6-B9FD-4942-A6C2-7213FC6E7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CC89-92F4-4579-8405-4F4C1A571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4B7F-B033-4CCF-954F-E4BD5E8D1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836B76-3330-4273-95FD-182347678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D8D75-EA27-4E93-B509-87CE25294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6132CA-47B1-4B8A-8AD7-17001D91F1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D1CBF8-D5E6-4799-9839-44B50E7F6F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F8387-7CD6-404E-B243-CCE4D15D6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7256C-3A52-48FD-8206-C2F1EC2DC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82FD3-1C9A-45DA-A3A5-8CA71485D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217A7-09C6-4B65-9CA6-A86F9E03E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73ECB-FF56-4E23-B962-16C871F27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F7068-340F-4BE9-83C9-2472FECB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A13A4-8107-4975-8467-5A12DD578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78AAF0-56D3-4EBD-B10E-DFB5C2484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02629-2670-42BE-9947-A63E4CCB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090A-2E8C-4594-B481-DCC90482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48A5-270F-4251-99E7-182037842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1F090-3BC9-4EAE-9778-6034A9829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3052F-EA7E-4167-8D63-0BED38E1F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8D6B59-D414-4045-938C-B8B736607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878AAF-484E-4F39-B690-4A8DB8D21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CCFF1-CF4C-4053-8FB6-0AAD174DD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D7FE96-17A4-48B1-85C9-04283117F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A7675-900E-4FD4-8719-BA84871FA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8756E-6B9B-4CB0-8902-D6DCD260F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CF1F7B-F01B-457C-9B33-B44BD3BD61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92A6-52B6-4ED9-A740-5FC6C6D52C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5A1F-0484-48CB-89A6-7D20ED84D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E26FF50EB6CD12B5D678CBBFB2884D12&amp;io=0&amp;sv=0a300530&amp;ask=atom+democritus&amp;uip=444474eb&amp;en=js&amp;eo=&amp;pt=&amp;ac=5&amp;qs=31&amp;pg=1&amp;u=http%3A%2F%2Fweb.ask.com%2Ffr%3Fq%3Datom%2Bdemocritus%26desturi%3Dhttp%253A%252F%252Fwww.lcsc.edu%252FNS150cip%252Funit2%252Fu2intro.htm%26fm%3Di%26ftURI%3Dhttp%253A%252F%252Fpictures.ask.com%253A80%252Ffr%253Fq%253Datom%2Bdemocritus%2526desturi%253Dhttp%253A%252F%252Fwww.lcsc.edu%252FNS150cip%252Funit2%252Fu2intro.htm%2526imagesrc%253Dhttp%253A%252F%252Fwww.lcsc.edu%252FNS150cip%252Fimages%252Fph_democritus.gif%2526thumbsrc%253Dhttp%253A%252F%252Fimages.picsearch.com%252Fis%253F191354610095%2526thumbwidth%253D128%2526thumbheight%253D105%2526fn%253Dph_democritus.gif%2526f%253D2%2526fm%253Di%2526ftbURI%253Dhttp%25253A%25252F%25252Fpictures.ask.com%25252Fpictures%25253Fq%25253Datom%25252Bdemocritus%252526page%25253D1%26qt%3D0" TargetMode="External"/><Relationship Id="rId2" Type="http://schemas.openxmlformats.org/officeDocument/2006/relationships/image" Target="../media/image1.jpeg"/><Relationship Id="rId3" Type="http://schemas.openxmlformats.org/officeDocument/2006/relationships/hyperlink" Target="http://tm.ask.com/r?t=an&amp;s=p&amp;uid=0BC1ACC9982C64134&amp;sid=3444474eb444474eb&amp;o=0&amp;qid=E26FF50EB6CD12B5D678CBBFB2884D12&amp;io=2&amp;sv=0a300530&amp;ask=atom+democritus&amp;uip=444474eb&amp;en=js&amp;eo=&amp;pt=&amp;ac=5&amp;qs=31&amp;pg=1&amp;u=http%3A%2F%2Fweb.ask.com%2Ffr%3Fq%3Datom%2Bdemocritus%26desturi%3Dhttp%253A%252F%252Fperiodictable.com%252Fpages%252FAAE_Democritus.html%26fm%3Di%26ftURI%3Dhttp%253A%252F%252Fpictures.ask.com%253A80%252Ffr%253Fq%253Datom%2Bdemocritus%2526desturi%253Dhttp%253A%252F%252Fperiodictable.com%252Fpages%252FAAE_Democritus.html%2526imagesrc%253Dhttp%253A%252F%252Fperiodictable.com%252Fpages%252Fpix%252Fdemocritus.gif%2526thumbsrc%253Dhttp%253A%252F%252Fimages.picsearch.com%252Fis%253F779247942435%2526thumbwidth%253D105%2526thumbheight%253D128%2526fn%253Ddemocritus.gif%2526f%253D2%2526fm%253Di%2526ftbURI%253Dhttp%25253A%25252F%25252Fpictures.ask.com%25252Fpictures%25253Fq%25253Datom%25252Bdemocritus%252526page%25253D1%26qt%3D0" TargetMode="External"/><Relationship Id="rId4" Type="http://schemas.openxmlformats.org/officeDocument/2006/relationships/image" Target="../media/image2.jpeg"/><Relationship Id="rId5" Type="http://schemas.openxmlformats.org/officeDocument/2006/relationships/hyperlink" Target="http://tm.ask.com/r?t=an&amp;s=p&amp;uid=0BC1ACC9982C64134&amp;sid=3444474eb444474eb&amp;o=0&amp;qid=7183E3D0CB069EA7F48E33436DBC64E3&amp;io=2&amp;sv=0a300516&amp;ask=aristotle&amp;uip=444474eb&amp;en=js&amp;eo=&amp;pt=&amp;ac=5&amp;qs=19&amp;pg=1&amp;u=http%3A%2F%2Fweb.ask.com%2Ffr%3Fq%3Daristotle%26desturi%3Dhttp%253A%252F%252Fwww.mindspring.com%252F%25257Emfpatton%252Fwimp.htm%26fm%3Di%26ftURI%3Dhttp%253A%252F%252Fpictures.ask.com%253A80%252Ffr%253Fq%253Daristotle%2526desturi%253Dhttp%253A%252F%252Fwww.mindspring.com%252F%25257Emfpatton%252Fwimp.htm%2526imagesrc%253Dhttp%253A%252F%252Fwww.mindspring.com%252F%25257Emfpatton%252Faristotle.jpg%2526thumbsrc%253Dhttp%253A%252F%252Fimages.picsearch.com%252Fis%253F280470257953%2526thumbwidth%253D105%2526thumbheight%253D128%2526fn%253Daristotle.jpg%2526f%253D2%2526fm%253Di%2526ftbURI%253Dhttp%25253A%25252F%25252Fpictures.ask.com%25252Fpictures%25253Fq%25253Daristotle%252526page%25253D1%26qt%3D0"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D87A6168ACA8949DA495E4A07005E95&amp;io=4&amp;sv=0a30052e&amp;ask=law+of+conservation+of+mass&amp;uip=444474eb&amp;en=is&amp;eo=&amp;pt=&amp;ac=2&amp;qs=31&amp;pg=1&amp;u=http%3A%2F%2Fweb.ask.com%2Ffr%3Fq%3Dlaw%2Bof%2Bconservation%2Bof%2Bmass%26desturi%3Dhttp%253A%252F%252Fiserver.asa.edu.py%252Fphysicsweb%252Flaw_of_cons_of_energy_ii.htm%26fm%3Di%26ftURI%3Dhttp%253A%252F%252Fpictures.ask.com%253A80%252Ffr%253Fq%253Dlaw%2Bof%2Bconservation%2Bof%2Bmass%2526desturi%253Dhttp%253A%252F%252Fiserver.asa.edu.py%252Fphysicsweb%252Flaw_of_cons_of_energy_ii.htm%2526imagesrc%253Dhttp%253A%252F%252Fiserver.asa.edu.py%252Fphysicsweb%252Flaw_of4.jpg%2526thumbsrc%253Dhttp%253A%252F%252Fimages.picsearch.com%252Fis%253F968715459545%2526thumbwidth%253D128%2526thumbheight%253D115%2526fn%253Dlaw_of4.jpg%2526f%253D2%2526fm%253Di%2526ftbURI%253Dhttp%25253A%25252F%25252Fpictures.ask.com%25252Fpictures%25253Fq%25253Dlaw%25252Bof%25252Bconservation%25252Bof%25252Bmass%252526page%25253D1%26qt%3D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A0F5F8BF9EDBF6B3A4AB13F17E29B30&amp;io=12&amp;sv=0a30051b&amp;ask=Dalton&amp;uip=444474eb&amp;en=js&amp;eo=&amp;pt=&amp;ac=24&amp;qs=1&amp;pg=1&amp;u=http%3A%2F%2Fweb.ask.com%2Ffr%3Fq%3DDalton%26desturi%3Dhttp%253A%252F%252Fantoine.frostburg.edu%252Fchem%252Fsenese%252F101%252Fatoms%252Fdalton.shtml%26fm%3Di%26ftURI%3Dhttp%253A%252F%252Fpictures.ask.com%253A80%252Ffr%253Fq%253DDalton%2526desturi%253Dhttp%253A%252F%252Fantoine.frostburg.edu%252Fchem%252Fsenese%252F101%252Fatoms%252Fdalton.shtml%2526imagesrc%253Dhttp%253A%252F%252Fantoine.frostburg.edu%252Fchem%252Fsenese%252F101%252Fatoms%252Fimages%252Fdalton.gif%2526thumbsrc%253Dhttp%253A%252F%252Fimages.picsearch.com%252Fis%253F293229089736%2526thumbwidth%253D110%2526thumbheight%253D128%2526fn%253Ddalton.gif%2526f%253D2%2526fm%253Di%2526ftbURI%253Dhttp%25253A%25252F%25252Fpictures.ask.com%25252Fpictures%25253Fq%25253DDalton%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m.ask.com/r?t=c&amp;s=p&amp;sv=0a30052b&amp;uid=0BC1ACC9982C64134&amp;sid=3444474eb444474eb&amp;o=0&amp;id=30751&amp;p=%2Ffr&amp;u=http%3A%2F%2Fwww.juliantrubin.com%2Fimagesc%2Fdalton1.gi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9A375D6082102FE7BDB3E4D0AAB0FC0&amp;io=14&amp;sv=0a30051b&amp;ask=cathode+ray+tube&amp;uip=444474eb&amp;en=is&amp;eo=&amp;pt=&amp;ac=11&amp;qs=86&amp;pg=2&amp;u=http%3A%2F%2Fweb.ask.com%2Ffr%3Fq%3Dcathode%2Bray%2Btube%26desturi%3Dhttp%253A%252F%252Fwww.sciencemuseum.org.uk%252Fcollections%252Ftreasures%252Fthomp2.asp%26fm%3Di%26ftURI%3Dhttp%253A%252F%252Fpictures.ask.com%253A80%252Ffr%253Fq%253Dcathode%2Bray%2Btube%2526desturi%253Dhttp%253A%252F%252Fwww.sciencemuseum.org.uk%252Fcollections%252Ftreasures%252Fthomp2.asp%2526imagesrc%253Dhttp%253A%252F%252Fwww.sciencemuseum.org.uk%252Fcollections%252Ftreasures%252Fimages%252Fthomp2.jpg%2526thumbsrc%253Dhttp%253A%252F%252Fimages.picsearch.com%252Fis%253F702178261566%2526thumbwidth%253D128%2526thumbheight%253D100%2526fn%253Dthomp2.jpg%2526f%253D2%2526fm%253Di%2526ftbURI%253Dhttp%25253A%25252F%25252Fpictures.ask.com%25252Fpictures%25253Fq%25253Dcathode%25252Bray%25252Btube%252526page%25253D2%26qt%3D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6FE87617A9172D61596A95907E4D87D&amp;io=4&amp;sv=0a300518&amp;ask=crookes+tube&amp;uip=444474eb&amp;en=is&amp;eo=&amp;pt=&amp;ac=24&amp;qs=31&amp;pg=2&amp;u=http%3A%2F%2Fweb.ask.com%2Ffr%3Fq%3Dcrookes%2Btube%26desturi%3Dhttp%253A%252F%252Fwww.ihep.ac.cn%252Fkejiyuandi%252Fzhishi%252Fgreen%252Fgreen-index.htm%26fm%3Di%26ftURI%3Dhttp%253A%252F%252Fpictures.ask.com%253A80%252Ffr%253Fq%253Dcrookes%2Btube%2526desturi%253Dhttp%253A%252F%252Fwww.ihep.ac.cn%252Fkejiyuandi%252Fzhishi%252Fgreen%252Fgreen-index.htm%2526imagesrc%253Dhttp%253A%252F%252Fwww.ihep.ac.cn%252Fkejiyuandi%252Fzhishi%252Fgreen%252Fcrookes-tube_small.jpg%2526thumbsrc%253Dhttp%253A%252F%252Fimages.picsearch.com%252Fis%253F7001082979393%2526thumbwidth%253D128%2526thumbheight%253D71%2526fn%253Dcrookes-tube_small.jpg%2526f%253D2%2526fm%253Di%2526ftbURI%253Dhttp%25253A%25252F%25252Fpictures.ask.com%25252Fpictures%25253Fq%25253Dcrookes%25252Btube%252526page%25253D2%26qt%3D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1839CF2D5D0AD32CD2009466F6897FFA&amp;io=0&amp;sv=0a30052e&amp;ask=Rutherford&amp;uip=444474eb&amp;en=js&amp;eo=&amp;pt=&amp;ac=24&amp;qs=27&amp;pg=1&amp;u=http%3A%2F%2Fweb.ask.com%2Ffr%3Fq%3DRutherford%26desturi%3Dhttp%253A%252F%252Fwww.anthroposophie.net%252Fbibliothek%252Fnawi%252Fphysik%252Frutherford%252Fbib_rutherford.htm%26fm%3Di%26ftURI%3Dhttp%253A%252F%252Fpictures.ask.com%253A80%252Ffr%253Fq%253DRutherford%2526desturi%253Dhttp%253A%252F%252Fwww.anthroposophie.net%252Fbibliothek%252Fnawi%252Fphysik%252Frutherford%252Fbib_rutherford.htm%2526imagesrc%253Dhttp%253A%252F%252Fwww.anthroposophie.net%252Fbilder%252Frutherford3.jpg%2526thumbsrc%253Dhttp%253A%252F%252Fimages.picsearch.com%252Fis%253F418277438207%2526thumbwidth%253D128%2526thumbheight%253D128%2526fn%253Drutherford3.jpg%2526f%253D2%2526fm%253Di%2526ftbURI%253Dhttp%25253A%25252F%25252Fpictures.ask.com%25252Fpictures%25253Fq%25253DRutherford%252526page%25253D1%26qt%3D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Chemical Foundations:</a:t>
            </a:r>
            <a:br>
              <a:rPr sz="4600"/>
            </a:br>
            <a:r>
              <a:rPr b="0" lang="en-US" sz="4600" spc="-1" strike="noStrike">
                <a:solidFill>
                  <a:srgbClr val="ffffff"/>
                </a:solidFill>
                <a:latin typeface="Calibri"/>
              </a:rPr>
              <a:t>Elements, Atoms, and Ions</a:t>
            </a:r>
            <a:endParaRPr b="0" lang="en-US" sz="4600" spc="-1" strike="noStrike">
              <a:solidFill>
                <a:srgbClr val="000000"/>
              </a:solidFill>
              <a:latin typeface="Arial"/>
            </a:endParaRPr>
          </a:p>
        </p:txBody>
      </p:sp>
      <p:sp>
        <p:nvSpPr>
          <p:cNvPr id="114" name="PlaceHolder 2"/>
          <p:cNvSpPr>
            <a:spLocks noGrp="1"/>
          </p:cNvSpPr>
          <p:nvPr>
            <p:ph type="subTitle"/>
          </p:nvPr>
        </p:nvSpPr>
        <p:spPr>
          <a:xfrm>
            <a:off x="2590920" y="4572000"/>
            <a:ext cx="6400800" cy="1752480"/>
          </a:xfrm>
          <a:prstGeom prst="rect">
            <a:avLst/>
          </a:prstGeom>
          <a:noFill/>
          <a:ln w="0">
            <a:noFill/>
          </a:ln>
        </p:spPr>
        <p:txBody>
          <a:bodyPr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Section </a:t>
            </a:r>
            <a:r>
              <a:rPr b="0" lang="en-US" sz="3400" spc="-1" strike="noStrike">
                <a:solidFill>
                  <a:srgbClr val="000000"/>
                </a:solidFill>
                <a:latin typeface="Calibri"/>
              </a:rPr>
              <a:t>4</a:t>
            </a:r>
            <a:endParaRPr b="0" lang="en-US" sz="3400" spc="-1" strike="noStrike">
              <a:solidFill>
                <a:srgbClr val="000000"/>
              </a:solidFill>
              <a:latin typeface="Arial"/>
            </a:endParaRPr>
          </a:p>
        </p:txBody>
      </p:sp>
      <p:sp>
        <p:nvSpPr>
          <p:cNvPr id="1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68C5-ED85-43A5-AA80-BA9197A94F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oble Gase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8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not reactive; often called iner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t room temperatur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used in light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Neon, Helium, Arg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5783-A046-487B-B98E-E4D4A6DE22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268" dur="500"/>
                                        <p:tgtEl>
                                          <p:spTgt spid="142">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273" dur="500"/>
                                        <p:tgtEl>
                                          <p:spTgt spid="142">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278" dur="500"/>
                                        <p:tgtEl>
                                          <p:spTgt spid="14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283" dur="500"/>
                                        <p:tgtEl>
                                          <p:spTgt spid="142">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42">
                                            <p:txEl>
                                              <p:pRg st="4" end="4"/>
                                            </p:txEl>
                                          </p:spTgt>
                                        </p:tgtEl>
                                        <p:attrNameLst>
                                          <p:attrName>style.visibility</p:attrName>
                                        </p:attrNameLst>
                                      </p:cBhvr>
                                      <p:to>
                                        <p:strVal val="visible"/>
                                      </p:to>
                                    </p:set>
                                    <p:animEffect filter="box(in)" transition="in">
                                      <p:cBhvr additive="repl">
                                        <p:cTn id="288"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lement on the periodic table has an </a:t>
            </a:r>
            <a:r>
              <a:rPr b="1" lang="en-US" sz="3200" spc="-1" strike="noStrike">
                <a:solidFill>
                  <a:srgbClr val="000000"/>
                </a:solidFill>
                <a:latin typeface="Calibri"/>
              </a:rPr>
              <a:t>atomic number, an atomic mass, and an atomic symbo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3"/>
          <p:cNvSpPr/>
          <p:nvPr/>
        </p:nvSpPr>
        <p:spPr>
          <a:xfrm>
            <a:off x="4191120" y="3429000"/>
            <a:ext cx="2209680" cy="2971800"/>
          </a:xfrm>
          <a:prstGeom prst="rect">
            <a:avLst/>
          </a:prstGeom>
          <a:solidFill>
            <a:srgbClr val="99ccff"/>
          </a:solidFill>
          <a:ln w="25560">
            <a:solidFill>
              <a:srgbClr val="6f6f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a:t>
            </a:r>
            <a:endParaRPr b="0" lang="en-US" sz="6000" spc="-1" strike="noStrike">
              <a:solidFill>
                <a:srgbClr val="000000"/>
              </a:solidFill>
              <a:latin typeface="Arial"/>
            </a:endParaRPr>
          </a:p>
        </p:txBody>
      </p:sp>
      <p:sp>
        <p:nvSpPr>
          <p:cNvPr id="147" name="TextBox 4"/>
          <p:cNvSpPr/>
          <p:nvPr/>
        </p:nvSpPr>
        <p:spPr>
          <a:xfrm>
            <a:off x="4952880" y="3733920"/>
            <a:ext cx="79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a:t>
            </a:r>
            <a:endParaRPr b="0" lang="en-US" sz="3000" spc="-1" strike="noStrike">
              <a:solidFill>
                <a:srgbClr val="000000"/>
              </a:solidFill>
              <a:latin typeface="Arial"/>
            </a:endParaRPr>
          </a:p>
        </p:txBody>
      </p:sp>
      <p:sp>
        <p:nvSpPr>
          <p:cNvPr id="148" name="TextBox 5"/>
          <p:cNvSpPr/>
          <p:nvPr/>
        </p:nvSpPr>
        <p:spPr>
          <a:xfrm>
            <a:off x="4807800" y="5791320"/>
            <a:ext cx="1050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2.99</a:t>
            </a:r>
            <a:endParaRPr b="0" lang="en-US" sz="3000" spc="-1" strike="noStrike">
              <a:solidFill>
                <a:srgbClr val="000000"/>
              </a:solidFill>
              <a:latin typeface="Arial"/>
            </a:endParaRPr>
          </a:p>
        </p:txBody>
      </p:sp>
      <p:cxnSp>
        <p:nvCxnSpPr>
          <p:cNvPr id="149" name="Straight Arrow Connector 9"/>
          <p:cNvCxnSpPr/>
          <p:nvPr/>
        </p:nvCxnSpPr>
        <p:spPr>
          <a:xfrm flipH="1">
            <a:off x="5486040" y="3886200"/>
            <a:ext cx="1372320" cy="76680"/>
          </a:xfrm>
          <a:prstGeom prst="straightConnector1">
            <a:avLst/>
          </a:prstGeom>
          <a:ln w="9360">
            <a:solidFill>
              <a:srgbClr val="000000"/>
            </a:solidFill>
            <a:miter/>
            <a:tailEnd len="med" type="arrow" w="med"/>
          </a:ln>
        </p:spPr>
      </p:cxnSp>
      <p:cxnSp>
        <p:nvCxnSpPr>
          <p:cNvPr id="150" name="Straight Arrow Connector 11"/>
          <p:cNvCxnSpPr/>
          <p:nvPr/>
        </p:nvCxnSpPr>
        <p:spPr>
          <a:xfrm>
            <a:off x="2666880" y="4800600"/>
            <a:ext cx="1905840" cy="76680"/>
          </a:xfrm>
          <a:prstGeom prst="straightConnector1">
            <a:avLst/>
          </a:prstGeom>
          <a:ln w="9360">
            <a:solidFill>
              <a:srgbClr val="000000"/>
            </a:solidFill>
            <a:miter/>
            <a:tailEnd len="med" type="arrow" w="med"/>
          </a:ln>
        </p:spPr>
      </p:cxnSp>
      <p:cxnSp>
        <p:nvCxnSpPr>
          <p:cNvPr id="151" name="Straight Arrow Connector 13"/>
          <p:cNvCxnSpPr/>
          <p:nvPr/>
        </p:nvCxnSpPr>
        <p:spPr>
          <a:xfrm>
            <a:off x="2895480" y="5943600"/>
            <a:ext cx="1905840" cy="76680"/>
          </a:xfrm>
          <a:prstGeom prst="straightConnector1">
            <a:avLst/>
          </a:prstGeom>
          <a:ln w="9360">
            <a:solidFill>
              <a:srgbClr val="000000"/>
            </a:solidFill>
            <a:miter/>
            <a:tailEnd len="med" type="arrow" w="med"/>
          </a:ln>
        </p:spPr>
      </p:cxnSp>
      <p:sp>
        <p:nvSpPr>
          <p:cNvPr id="152" name="TextBox 16"/>
          <p:cNvSpPr/>
          <p:nvPr/>
        </p:nvSpPr>
        <p:spPr>
          <a:xfrm>
            <a:off x="6939360" y="365760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number</a:t>
            </a:r>
            <a:endParaRPr b="0" lang="en-US" sz="2000" spc="-1" strike="noStrike">
              <a:solidFill>
                <a:srgbClr val="000000"/>
              </a:solidFill>
              <a:latin typeface="Arial"/>
            </a:endParaRPr>
          </a:p>
        </p:txBody>
      </p:sp>
      <p:sp>
        <p:nvSpPr>
          <p:cNvPr id="153" name="TextBox 18"/>
          <p:cNvSpPr/>
          <p:nvPr/>
        </p:nvSpPr>
        <p:spPr>
          <a:xfrm>
            <a:off x="840240" y="45720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symbol</a:t>
            </a:r>
            <a:endParaRPr b="0" lang="en-US" sz="2000" spc="-1" strike="noStrike">
              <a:solidFill>
                <a:srgbClr val="000000"/>
              </a:solidFill>
              <a:latin typeface="Arial"/>
            </a:endParaRPr>
          </a:p>
        </p:txBody>
      </p:sp>
      <p:sp>
        <p:nvSpPr>
          <p:cNvPr id="154" name="TextBox 19"/>
          <p:cNvSpPr/>
          <p:nvPr/>
        </p:nvSpPr>
        <p:spPr>
          <a:xfrm>
            <a:off x="1148040" y="57150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mass</a:t>
            </a:r>
            <a:endParaRPr b="0" lang="en-US" sz="2000" spc="-1" strike="noStrike">
              <a:solidFill>
                <a:srgbClr val="000000"/>
              </a:solidFill>
              <a:latin typeface="Arial"/>
            </a:endParaRPr>
          </a:p>
        </p:txBody>
      </p:sp>
      <p:sp>
        <p:nvSpPr>
          <p:cNvPr id="155"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D6BE-8A6F-4F0E-9B52-147ED9A045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95" dur="500"/>
                                        <p:tgtEl>
                                          <p:spTgt spid="14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46"/>
                                        </p:tgtEl>
                                        <p:attrNameLst>
                                          <p:attrName>style.visibility</p:attrName>
                                        </p:attrNameLst>
                                      </p:cBhvr>
                                      <p:to>
                                        <p:strVal val="visible"/>
                                      </p:to>
                                    </p:set>
                                    <p:animEffect filter="blinds(horizontal)"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305" dur="500"/>
                                        <p:tgtEl>
                                          <p:spTgt spid="14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50"/>
                                        </p:tgtEl>
                                        <p:attrNameLst>
                                          <p:attrName>style.visibility</p:attrName>
                                        </p:attrNameLst>
                                      </p:cBhvr>
                                      <p:to>
                                        <p:strVal val="visible"/>
                                      </p:to>
                                    </p:set>
                                    <p:animEffect filter="box(in)" transition="in">
                                      <p:cBhvr additive="repl">
                                        <p:cTn id="310" dur="500"/>
                                        <p:tgtEl>
                                          <p:spTgt spid="15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315" dur="500"/>
                                        <p:tgtEl>
                                          <p:spTgt spid="15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20" dur="500"/>
                                        <p:tgtEl>
                                          <p:spTgt spid="14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49"/>
                                        </p:tgtEl>
                                        <p:attrNameLst>
                                          <p:attrName>style.visibility</p:attrName>
                                        </p:attrNameLst>
                                      </p:cBhvr>
                                      <p:to>
                                        <p:strVal val="visible"/>
                                      </p:to>
                                    </p:set>
                                    <p:animEffect filter="blinds(horizontal)" transition="in">
                                      <p:cBhvr additive="repl">
                                        <p:cTn id="325" dur="500"/>
                                        <p:tgtEl>
                                          <p:spTgt spid="14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330" dur="500"/>
                                        <p:tgtEl>
                                          <p:spTgt spid="15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5" dur="500"/>
                                        <p:tgtEl>
                                          <p:spTgt spid="148">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1"/>
                                        </p:tgtEl>
                                        <p:attrNameLst>
                                          <p:attrName>style.visibility</p:attrName>
                                        </p:attrNameLst>
                                      </p:cBhvr>
                                      <p:to>
                                        <p:strVal val="visible"/>
                                      </p:to>
                                    </p:set>
                                    <p:animEffect filter="blinds(horizontal)" transition="in">
                                      <p:cBhvr additive="repl">
                                        <p:cTn id="340" dur="500"/>
                                        <p:tgtEl>
                                          <p:spTgt spid="15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345"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Number (AN)</a:t>
            </a:r>
            <a:r>
              <a:rPr b="0" lang="en-US" sz="3200" spc="-1" strike="noStrike">
                <a:solidFill>
                  <a:srgbClr val="000000"/>
                </a:solidFill>
                <a:latin typeface="Calibri"/>
              </a:rPr>
              <a:t> – the number of protons in the nucleus of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Mass (AM)</a:t>
            </a:r>
            <a:r>
              <a:rPr b="0" lang="en-US" sz="3200" spc="-1" strike="noStrike">
                <a:solidFill>
                  <a:srgbClr val="000000"/>
                </a:solidFill>
                <a:latin typeface="Calibri"/>
              </a:rPr>
              <a:t> – number of protons and neutrons in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symbol</a:t>
            </a:r>
            <a:r>
              <a:rPr b="0" lang="en-US" sz="3200" spc="-1" strike="noStrike">
                <a:solidFill>
                  <a:srgbClr val="000000"/>
                </a:solidFill>
                <a:latin typeface="Calibri"/>
              </a:rPr>
              <a:t> – the abbreviated or shorthand version of the name of an ele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64DF-1575-4348-8E75-47079BBEBD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2" dur="500"/>
                                        <p:tgtEl>
                                          <p:spTgt spid="15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57" dur="500"/>
                                        <p:tgtEl>
                                          <p:spTgt spid="157">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6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304920" y="209700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p</a:t>
            </a:r>
            <a:r>
              <a:rPr b="0" lang="en-US" sz="3600" spc="-1" strike="noStrike" baseline="30000">
                <a:solidFill>
                  <a:srgbClr val="000000"/>
                </a:solidFill>
                <a:latin typeface="Arial"/>
              </a:rPr>
              <a:t>+</a:t>
            </a:r>
            <a:endParaRPr b="0" lang="en-US" sz="3600" spc="-1" strike="noStrike">
              <a:solidFill>
                <a:srgbClr val="000000"/>
              </a:solidFill>
              <a:latin typeface="Arial"/>
            </a:endParaRPr>
          </a:p>
        </p:txBody>
      </p:sp>
      <p:sp>
        <p:nvSpPr>
          <p:cNvPr id="160" name="TextBox 2"/>
          <p:cNvSpPr/>
          <p:nvPr/>
        </p:nvSpPr>
        <p:spPr>
          <a:xfrm>
            <a:off x="304920" y="27432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e</a:t>
            </a:r>
            <a:r>
              <a:rPr b="0" lang="en-US" sz="3600" spc="-1" strike="noStrike" baseline="30000">
                <a:solidFill>
                  <a:srgbClr val="000000"/>
                </a:solidFill>
                <a:latin typeface="Arial"/>
              </a:rPr>
              <a:t>-</a:t>
            </a:r>
            <a:r>
              <a:rPr b="0" lang="en-US" sz="3600" spc="-1" strike="noStrike">
                <a:solidFill>
                  <a:srgbClr val="000000"/>
                </a:solidFill>
                <a:latin typeface="Arial"/>
              </a:rPr>
              <a:t> (neutral atom)</a:t>
            </a:r>
            <a:endParaRPr b="0" lang="en-US" sz="3600" spc="-1" strike="noStrike">
              <a:solidFill>
                <a:srgbClr val="000000"/>
              </a:solidFill>
              <a:latin typeface="Arial"/>
            </a:endParaRPr>
          </a:p>
        </p:txBody>
      </p:sp>
      <p:sp>
        <p:nvSpPr>
          <p:cNvPr id="161" name="TextBox 3"/>
          <p:cNvSpPr/>
          <p:nvPr/>
        </p:nvSpPr>
        <p:spPr>
          <a:xfrm>
            <a:off x="304920" y="34290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 (Atomic Mass) = p</a:t>
            </a:r>
            <a:r>
              <a:rPr b="0" lang="en-US" sz="3600" spc="-1" strike="noStrike" baseline="30000">
                <a:solidFill>
                  <a:srgbClr val="000000"/>
                </a:solidFill>
                <a:latin typeface="Arial"/>
              </a:rPr>
              <a:t>+</a:t>
            </a:r>
            <a:r>
              <a:rPr b="0" lang="en-US" sz="3600" spc="-1" strike="noStrike">
                <a:solidFill>
                  <a:srgbClr val="000000"/>
                </a:solidFill>
                <a:latin typeface="Arial"/>
              </a:rPr>
              <a:t> + n</a:t>
            </a:r>
            <a:r>
              <a:rPr b="0" lang="en-US" sz="3200" spc="-1" strike="noStrike" baseline="30000">
                <a:solidFill>
                  <a:srgbClr val="000000"/>
                </a:solidFill>
                <a:latin typeface="Arial"/>
              </a:rPr>
              <a:t>0</a:t>
            </a:r>
            <a:endParaRPr b="0" lang="en-US" sz="3200" spc="-1" strike="noStrike">
              <a:solidFill>
                <a:srgbClr val="000000"/>
              </a:solidFill>
              <a:latin typeface="Arial"/>
            </a:endParaRPr>
          </a:p>
        </p:txBody>
      </p:sp>
      <p:sp>
        <p:nvSpPr>
          <p:cNvPr id="162" name="TextBox 4"/>
          <p:cNvSpPr/>
          <p:nvPr/>
        </p:nvSpPr>
        <p:spPr>
          <a:xfrm>
            <a:off x="380880" y="419112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
            </a:r>
            <a:r>
              <a:rPr b="0" lang="en-US" sz="3200" spc="-1" strike="noStrike" baseline="30000">
                <a:solidFill>
                  <a:srgbClr val="000000"/>
                </a:solidFill>
                <a:latin typeface="Arial"/>
              </a:rPr>
              <a:t>0 </a:t>
            </a:r>
            <a:r>
              <a:rPr b="0" lang="en-US" sz="3200" spc="-1" strike="noStrike">
                <a:solidFill>
                  <a:srgbClr val="000000"/>
                </a:solidFill>
                <a:latin typeface="Arial"/>
              </a:rPr>
              <a:t>= AM - AN </a:t>
            </a:r>
            <a:endParaRPr b="0" lang="en-US" sz="3200" spc="-1" strike="noStrike">
              <a:solidFill>
                <a:srgbClr val="000000"/>
              </a:solidFill>
              <a:latin typeface="Arial"/>
            </a:endParaRPr>
          </a:p>
        </p:txBody>
      </p:sp>
      <p:sp>
        <p:nvSpPr>
          <p:cNvPr id="163"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6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39E7-A7B9-4E83-87C3-263D26296F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9"/>
                                        </p:tgtEl>
                                        <p:attrNameLst>
                                          <p:attrName>style.visibility</p:attrName>
                                        </p:attrNameLst>
                                      </p:cBhvr>
                                      <p:to>
                                        <p:strVal val="visible"/>
                                      </p:to>
                                    </p:set>
                                    <p:anim calcmode="lin" valueType="num">
                                      <p:cBhvr additive="base">
                                        <p:cTn id="369" dur="500" fill="hold"/>
                                        <p:tgtEl>
                                          <p:spTgt spid="159"/>
                                        </p:tgtEl>
                                        <p:attrNameLst>
                                          <p:attrName>ppt_x</p:attrName>
                                        </p:attrNameLst>
                                      </p:cBhvr>
                                      <p:tavLst>
                                        <p:tav tm="0">
                                          <p:val>
                                            <p:strVal val="#ppt_x"/>
                                          </p:val>
                                        </p:tav>
                                        <p:tav tm="100000">
                                          <p:val>
                                            <p:strVal val="#ppt_x"/>
                                          </p:val>
                                        </p:tav>
                                      </p:tavLst>
                                    </p:anim>
                                    <p:anim calcmode="lin" valueType="num">
                                      <p:cBhvr additive="base">
                                        <p:cTn id="37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ppt_x"/>
                                          </p:val>
                                        </p:tav>
                                        <p:tav tm="100000">
                                          <p:val>
                                            <p:strVal val="#ppt_x"/>
                                          </p:val>
                                        </p:tav>
                                      </p:tavLst>
                                    </p:anim>
                                    <p:anim calcmode="lin" valueType="num">
                                      <p:cBhvr additive="base">
                                        <p:cTn id="37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61"/>
                                        </p:tgtEl>
                                        <p:attrNameLst>
                                          <p:attrName>style.visibility</p:attrName>
                                        </p:attrNameLst>
                                      </p:cBhvr>
                                      <p:to>
                                        <p:strVal val="visible"/>
                                      </p:to>
                                    </p:set>
                                    <p:anim calcmode="lin" valueType="num">
                                      <p:cBhvr additive="base">
                                        <p:cTn id="381" dur="500" fill="hold"/>
                                        <p:tgtEl>
                                          <p:spTgt spid="161"/>
                                        </p:tgtEl>
                                        <p:attrNameLst>
                                          <p:attrName>ppt_x</p:attrName>
                                        </p:attrNameLst>
                                      </p:cBhvr>
                                      <p:tavLst>
                                        <p:tav tm="0">
                                          <p:val>
                                            <p:strVal val="#ppt_x"/>
                                          </p:val>
                                        </p:tav>
                                        <p:tav tm="100000">
                                          <p:val>
                                            <p:strVal val="#ppt_x"/>
                                          </p:val>
                                        </p:tav>
                                      </p:tavLst>
                                    </p:anim>
                                    <p:anim calcmode="lin" valueType="num">
                                      <p:cBhvr additive="base">
                                        <p:cTn id="38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62"/>
                                        </p:tgtEl>
                                        <p:attrNameLst>
                                          <p:attrName>style.visibility</p:attrName>
                                        </p:attrNameLst>
                                      </p:cBhvr>
                                      <p:to>
                                        <p:strVal val="visible"/>
                                      </p:to>
                                    </p:set>
                                    <p:anim calcmode="lin" valueType="num">
                                      <p:cBhvr additive="base">
                                        <p:cTn id="387" dur="500" fill="hold"/>
                                        <p:tgtEl>
                                          <p:spTgt spid="162"/>
                                        </p:tgtEl>
                                        <p:attrNameLst>
                                          <p:attrName>ppt_x</p:attrName>
                                        </p:attrNameLst>
                                      </p:cBhvr>
                                      <p:tavLst>
                                        <p:tav tm="0">
                                          <p:val>
                                            <p:strVal val="#ppt_x"/>
                                          </p:val>
                                        </p:tav>
                                        <p:tav tm="100000">
                                          <p:val>
                                            <p:strVal val="#ppt_x"/>
                                          </p:val>
                                        </p:tav>
                                      </p:tavLst>
                                    </p:anim>
                                    <p:anim calcmode="lin" valueType="num">
                                      <p:cBhvr additive="base">
                                        <p:cTn id="38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Calibri"/>
              </a:rPr>
              <a:t>What Elements Should You Know?</a:t>
            </a:r>
            <a:endParaRPr b="0" lang="en-US" sz="3500" spc="-1" strike="noStrike">
              <a:solidFill>
                <a:srgbClr val="000000"/>
              </a:solidFill>
              <a:latin typeface="Arial"/>
            </a:endParaRPr>
          </a:p>
        </p:txBody>
      </p:sp>
      <p:sp>
        <p:nvSpPr>
          <p:cNvPr id="166" name="PlaceHolder 2"/>
          <p:cNvSpPr>
            <a:spLocks noGrp="1"/>
          </p:cNvSpPr>
          <p:nvPr>
            <p:ph/>
          </p:nvPr>
        </p:nvSpPr>
        <p:spPr>
          <a:xfrm>
            <a:off x="456840" y="1752480"/>
            <a:ext cx="3962520" cy="3810240"/>
          </a:xfrm>
          <a:prstGeom prst="rect">
            <a:avLst/>
          </a:prstGeom>
          <a:noFill/>
          <a:ln w="0">
            <a:noFill/>
          </a:ln>
        </p:spPr>
        <p:txBody>
          <a:bodyPr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1-20</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ium – Cr</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ganese – Mn</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n – Fe</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balt – Co</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el – Ni</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per - Cu</a:t>
            </a:r>
            <a:endParaRPr b="0" lang="en-US" sz="3200" spc="-1" strike="noStrike">
              <a:solidFill>
                <a:srgbClr val="000000"/>
              </a:solidFill>
              <a:latin typeface="Arial"/>
            </a:endParaRPr>
          </a:p>
        </p:txBody>
      </p:sp>
      <p:sp>
        <p:nvSpPr>
          <p:cNvPr id="167" name="Rectangle 3"/>
          <p:cNvSpPr/>
          <p:nvPr/>
        </p:nvSpPr>
        <p:spPr>
          <a:xfrm>
            <a:off x="4724280" y="1600200"/>
            <a:ext cx="396252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inc – Z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mine – Br</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ver – A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n – S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dine – I</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 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cury – H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 Pb</a:t>
            </a:r>
            <a:endParaRPr b="0" lang="en-US" sz="3200" spc="-1" strike="noStrike">
              <a:solidFill>
                <a:srgbClr val="000000"/>
              </a:solidFill>
              <a:latin typeface="Arial"/>
            </a:endParaRPr>
          </a:p>
        </p:txBody>
      </p:sp>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AFA6-1B77-476B-89F2-31686B74B9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History of the Atom</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305920" cy="3124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400 B.C., Democritus called nature’s basic particle the “atom” based on the Greek word meaning “indivisible”. Indivisible means unable to be broken apar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stotle succeeded Democritus and did not believe in atoms. Instead, he thought that all matter was continuous. It was his theory that was accepted for the next 2,000 years.</a:t>
            </a:r>
            <a:endParaRPr b="0" lang="en-US" sz="2800" spc="-1" strike="noStrike">
              <a:solidFill>
                <a:srgbClr val="000000"/>
              </a:solidFill>
              <a:latin typeface="Arial"/>
            </a:endParaRPr>
          </a:p>
        </p:txBody>
      </p:sp>
      <p:pic>
        <p:nvPicPr>
          <p:cNvPr id="171" name="Picture 5" descr="is?191354610095">
            <a:hlinkClick r:id="rId1"/>
          </p:cNvPr>
          <p:cNvPicPr/>
          <p:nvPr/>
        </p:nvPicPr>
        <p:blipFill>
          <a:blip r:embed="rId2"/>
          <a:stretch/>
        </p:blipFill>
        <p:spPr>
          <a:xfrm>
            <a:off x="685800" y="685800"/>
            <a:ext cx="1447920" cy="1187280"/>
          </a:xfrm>
          <a:prstGeom prst="rect">
            <a:avLst/>
          </a:prstGeom>
          <a:ln w="0">
            <a:noFill/>
          </a:ln>
        </p:spPr>
      </p:pic>
      <p:pic>
        <p:nvPicPr>
          <p:cNvPr id="172" name="Picture 7" descr="is?779247942435">
            <a:hlinkClick r:id="rId3"/>
          </p:cNvPr>
          <p:cNvPicPr/>
          <p:nvPr/>
        </p:nvPicPr>
        <p:blipFill>
          <a:blip r:embed="rId4"/>
          <a:stretch/>
        </p:blipFill>
        <p:spPr>
          <a:xfrm>
            <a:off x="2438280" y="5181480"/>
            <a:ext cx="1187640" cy="1447920"/>
          </a:xfrm>
          <a:prstGeom prst="rect">
            <a:avLst/>
          </a:prstGeom>
          <a:ln w="0">
            <a:noFill/>
          </a:ln>
        </p:spPr>
      </p:pic>
      <p:pic>
        <p:nvPicPr>
          <p:cNvPr id="173" name="Picture 9" descr="is?280470257953">
            <a:hlinkClick r:id="rId5"/>
          </p:cNvPr>
          <p:cNvPicPr/>
          <p:nvPr/>
        </p:nvPicPr>
        <p:blipFill>
          <a:blip r:embed="rId6"/>
          <a:stretch/>
        </p:blipFill>
        <p:spPr>
          <a:xfrm>
            <a:off x="6095880" y="5181480"/>
            <a:ext cx="1251000" cy="1524240"/>
          </a:xfrm>
          <a:prstGeom prst="rect">
            <a:avLst/>
          </a:prstGeom>
          <a:ln w="0">
            <a:noFill/>
          </a:ln>
        </p:spPr>
      </p:pic>
      <p:sp>
        <p:nvSpPr>
          <p:cNvPr id="17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4D0A-9D91-4F92-A671-819F66532B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395" dur="500"/>
                                        <p:tgtEl>
                                          <p:spTgt spid="17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40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Basic Laws of Matter</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Law of Conservation of Mass</a:t>
            </a:r>
            <a:r>
              <a:rPr b="1" lang="en-US" sz="3200" spc="-1" strike="noStrike">
                <a:solidFill>
                  <a:srgbClr val="000000"/>
                </a:solidFill>
                <a:latin typeface="Calibri"/>
              </a:rPr>
              <a:t> -</a:t>
            </a:r>
            <a:r>
              <a:rPr b="0" lang="en-US" sz="3200" spc="-1" strike="noStrike">
                <a:solidFill>
                  <a:srgbClr val="000000"/>
                </a:solidFill>
                <a:latin typeface="Calibri"/>
              </a:rPr>
              <a:t> mass is neither created or destroyed during ordinary chemical reactions or physical chang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   B   →    AB</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   3   =   4</a:t>
            </a:r>
            <a:endParaRPr b="0" lang="en-US" sz="3200" spc="-1" strike="noStrike">
              <a:solidFill>
                <a:srgbClr val="000000"/>
              </a:solidFill>
              <a:latin typeface="Arial"/>
            </a:endParaRPr>
          </a:p>
        </p:txBody>
      </p:sp>
      <p:pic>
        <p:nvPicPr>
          <p:cNvPr id="177" name="Picture 5" descr="is?968715459545">
            <a:hlinkClick r:id="rId1"/>
          </p:cNvPr>
          <p:cNvPicPr/>
          <p:nvPr/>
        </p:nvPicPr>
        <p:blipFill>
          <a:blip r:embed="rId2"/>
          <a:stretch/>
        </p:blipFill>
        <p:spPr>
          <a:xfrm>
            <a:off x="685800" y="4648320"/>
            <a:ext cx="1828800" cy="1643040"/>
          </a:xfrm>
          <a:prstGeom prst="rect">
            <a:avLst/>
          </a:prstGeom>
          <a:ln w="0">
            <a:noFill/>
          </a:ln>
        </p:spPr>
      </p:pic>
      <p:pic>
        <p:nvPicPr>
          <p:cNvPr id="178" name="Picture 7" descr="is?938456631201"/>
          <p:cNvPicPr/>
          <p:nvPr/>
        </p:nvPicPr>
        <p:blipFill>
          <a:blip r:embed="rId3"/>
          <a:stretch/>
        </p:blipFill>
        <p:spPr>
          <a:xfrm>
            <a:off x="7238880" y="4495680"/>
            <a:ext cx="1246320" cy="1752840"/>
          </a:xfrm>
          <a:prstGeom prst="rect">
            <a:avLst/>
          </a:prstGeom>
          <a:ln w="0">
            <a:noFill/>
          </a:ln>
        </p:spPr>
      </p:pic>
      <p:sp>
        <p:nvSpPr>
          <p:cNvPr id="179" name="Text Box 8"/>
          <p:cNvSpPr/>
          <p:nvPr/>
        </p:nvSpPr>
        <p:spPr>
          <a:xfrm>
            <a:off x="6858000" y="63244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ine Lavoisier</a:t>
            </a:r>
            <a:endParaRPr b="0" lang="en-US" sz="1800" spc="-1" strike="noStrike">
              <a:solidFill>
                <a:srgbClr val="000000"/>
              </a:solidFill>
              <a:latin typeface="Arial"/>
            </a:endParaRPr>
          </a:p>
        </p:txBody>
      </p:sp>
      <p:sp>
        <p:nvSpPr>
          <p:cNvPr id="18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DB77-AC0F-4149-8868-8AD5C1C57B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07" dur="500"/>
                                        <p:tgtEl>
                                          <p:spTgt spid="17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412" dur="500"/>
                                        <p:tgtEl>
                                          <p:spTgt spid="176">
                                            <p:txEl>
                                              <p:pRg st="1" end="1"/>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41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82"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8, Dalton proposed a theory to explain the laws of conservation of mass, definite proportions, and multiple proportions.</a:t>
            </a:r>
            <a:endParaRPr b="0" lang="en-US" sz="3200" spc="-1" strike="noStrike">
              <a:solidFill>
                <a:srgbClr val="000000"/>
              </a:solidFill>
              <a:latin typeface="Arial"/>
            </a:endParaRPr>
          </a:p>
        </p:txBody>
      </p:sp>
      <p:pic>
        <p:nvPicPr>
          <p:cNvPr id="183" name="Picture 5" descr="is?293229089736">
            <a:hlinkClick r:id="rId1"/>
          </p:cNvPr>
          <p:cNvPicPr/>
          <p:nvPr/>
        </p:nvPicPr>
        <p:blipFill>
          <a:blip r:embed="rId2"/>
          <a:stretch/>
        </p:blipFill>
        <p:spPr>
          <a:xfrm>
            <a:off x="3581280" y="3505320"/>
            <a:ext cx="2619360" cy="3047760"/>
          </a:xfrm>
          <a:prstGeom prst="rect">
            <a:avLst/>
          </a:prstGeom>
          <a:ln w="0">
            <a:noFill/>
          </a:ln>
        </p:spPr>
      </p:pic>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0785-C193-4779-82C6-C146F2654D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422"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86" name="PlaceHolder 2"/>
          <p:cNvSpPr>
            <a:spLocks noGrp="1"/>
          </p:cNvSpPr>
          <p:nvPr>
            <p:ph/>
          </p:nvPr>
        </p:nvSpPr>
        <p:spPr>
          <a:xfrm>
            <a:off x="380880" y="1905120"/>
            <a:ext cx="8305920" cy="3962160"/>
          </a:xfrm>
          <a:prstGeom prst="rect">
            <a:avLst/>
          </a:prstGeom>
          <a:noFill/>
          <a:ln w="0">
            <a:noFill/>
          </a:ln>
        </p:spPr>
        <p:txBody>
          <a:bodyPr anchor="t">
            <a:normAutofit fontScale="92000"/>
          </a:bodyPr>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matter is composed of extremely small particles called atom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oms of a given element are identical in size, mass, and other properties.  </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e atoms of a given element are different from those of any other element.</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oms of different elements combine in simple whole-number ratios to form chemical compound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In chemical reactions, atoms are combined, separated, or rearranged but they are not created or destroyed</a:t>
            </a:r>
            <a:endParaRPr b="0" lang="en-US" sz="2800" spc="-1" strike="noStrike">
              <a:solidFill>
                <a:srgbClr val="000000"/>
              </a:solidFill>
              <a:latin typeface="Arial"/>
            </a:endParaRPr>
          </a:p>
        </p:txBody>
      </p:sp>
      <p:pic>
        <p:nvPicPr>
          <p:cNvPr id="187" name="Picture 5" descr="dalton1.gif">
            <a:hlinkClick r:id="rId1"/>
          </p:cNvPr>
          <p:cNvPicPr/>
          <p:nvPr/>
        </p:nvPicPr>
        <p:blipFill>
          <a:blip r:embed="rId2"/>
          <a:stretch/>
        </p:blipFill>
        <p:spPr>
          <a:xfrm>
            <a:off x="7315200" y="380880"/>
            <a:ext cx="1523880" cy="1524240"/>
          </a:xfrm>
          <a:prstGeom prst="rect">
            <a:avLst/>
          </a:prstGeom>
          <a:ln w="0">
            <a:noFill/>
          </a:ln>
        </p:spPr>
      </p:pic>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2427-1350-4F14-81B0-53C6BAF6F1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29" dur="500"/>
                                        <p:tgtEl>
                                          <p:spTgt spid="186">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434" dur="500"/>
                                        <p:tgtEl>
                                          <p:spTgt spid="186">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39" dur="500"/>
                                        <p:tgtEl>
                                          <p:spTgt spid="186">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44" dur="500"/>
                                        <p:tgtEl>
                                          <p:spTgt spid="186">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49"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7 the English physicist Joseph John Thomson was able to measure the ratio of charge of the cathode ray particles to their mass.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ound that the ratio was always the same regardless of the metal used to make the cathode or the nature of the gas inside the cathode ray tube.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 concluded that cathode rays were composed of identical negatively charge particles called electrons.</a:t>
            </a:r>
            <a:endParaRPr b="0" lang="en-US" sz="2800" spc="-1" strike="noStrike">
              <a:solidFill>
                <a:srgbClr val="000000"/>
              </a:solidFill>
              <a:latin typeface="Arial"/>
            </a:endParaRPr>
          </a:p>
        </p:txBody>
      </p:sp>
      <p:pic>
        <p:nvPicPr>
          <p:cNvPr id="191" name="Picture 5" descr="is?923451351792"/>
          <p:cNvPicPr/>
          <p:nvPr/>
        </p:nvPicPr>
        <p:blipFill>
          <a:blip r:embed="rId1"/>
          <a:stretch/>
        </p:blipFill>
        <p:spPr>
          <a:xfrm>
            <a:off x="444600" y="609480"/>
            <a:ext cx="1255680" cy="1371600"/>
          </a:xfrm>
          <a:prstGeom prst="rect">
            <a:avLst/>
          </a:prstGeom>
          <a:ln w="0">
            <a:noFill/>
          </a:ln>
        </p:spPr>
      </p:pic>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04D0-503C-445D-974D-D3692F2F98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Groups and Periods</a:t>
            </a:r>
            <a:endParaRPr b="0" lang="en-US" sz="4400" spc="-1" strike="noStrike">
              <a:solidFill>
                <a:srgbClr val="000000"/>
              </a:solidFill>
              <a:latin typeface="Arial"/>
            </a:endParaRPr>
          </a:p>
        </p:txBody>
      </p:sp>
      <p:sp>
        <p:nvSpPr>
          <p:cNvPr id="117" name="PlaceHolder 2"/>
          <p:cNvSpPr>
            <a:spLocks noGrp="1"/>
          </p:cNvSpPr>
          <p:nvPr>
            <p:ph/>
          </p:nvPr>
        </p:nvSpPr>
        <p:spPr>
          <a:xfrm>
            <a:off x="533520" y="837720"/>
            <a:ext cx="8229600" cy="38862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Groups or Families</a:t>
            </a:r>
            <a:r>
              <a:rPr b="0" lang="en-US" sz="3200" spc="-1" strike="noStrike">
                <a:solidFill>
                  <a:srgbClr val="000000"/>
                </a:solidFill>
                <a:latin typeface="Calibri"/>
              </a:rPr>
              <a:t> - vertical columns on the periodic table. The elements in groups contain similar properties and behave similarly</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eriods </a:t>
            </a:r>
            <a:r>
              <a:rPr b="0" lang="en-US" sz="3200" spc="-1" strike="noStrike">
                <a:solidFill>
                  <a:srgbClr val="000000"/>
                </a:solidFill>
                <a:latin typeface="Calibri"/>
              </a:rPr>
              <a:t>- horizontal rows on the periodic table.</a:t>
            </a:r>
            <a:endParaRPr b="0" lang="en-US" sz="3200" spc="-1" strike="noStrike">
              <a:solidFill>
                <a:srgbClr val="000000"/>
              </a:solidFill>
              <a:latin typeface="Arial"/>
            </a:endParaRPr>
          </a:p>
        </p:txBody>
      </p:sp>
      <p:sp>
        <p:nvSpPr>
          <p:cNvPr id="1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2F9F-6B1E-4185-B607-1EB1B469E6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17">
                                            <p:txEl>
                                              <p:pRg st="3" end="3"/>
                                            </p:txEl>
                                          </p:spTgt>
                                        </p:tgtEl>
                                        <p:attrNameLst>
                                          <p:attrName>style.visibility</p:attrName>
                                        </p:attrNameLst>
                                      </p:cBhvr>
                                      <p:to>
                                        <p:strVal val="visible"/>
                                      </p:to>
                                    </p:set>
                                    <p:animEffect filter="wedge" transition="in">
                                      <p:cBhvr additive="repl">
                                        <p:cTn id="7" dur="2000"/>
                                        <p:tgtEl>
                                          <p:spTgt spid="117">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17">
                                            <p:txEl>
                                              <p:pRg st="5" end="5"/>
                                            </p:txEl>
                                          </p:spTgt>
                                        </p:tgtEl>
                                        <p:attrNameLst>
                                          <p:attrName>style.visibility</p:attrName>
                                        </p:attrNameLst>
                                      </p:cBhvr>
                                      <p:to>
                                        <p:strVal val="visible"/>
                                      </p:to>
                                    </p:set>
                                    <p:animEffect filter="wedge" transition="in">
                                      <p:cBhvr additive="repl">
                                        <p:cTn id="12"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s experiments revealed that the electron has a very large charge-to-mass ratio.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determined that electrons were present in all elements because he noted that cathode rays had identical properties regardless of the element used to produce th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E1C1-E91B-4C06-8A19-C05CFF87E4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late 1800’s many experiments were performed  in which electric current was passed through gases at low pressures due to the fact that gases at atmospheric pressure don’t conduct electricity well.</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xperiments were carried out in glass tubes called cathode-ray tubes.</a:t>
            </a:r>
            <a:endParaRPr b="0" lang="en-US" sz="3000" spc="-1" strike="noStrike">
              <a:solidFill>
                <a:srgbClr val="000000"/>
              </a:solidFill>
              <a:latin typeface="Arial"/>
            </a:endParaRPr>
          </a:p>
        </p:txBody>
      </p:sp>
      <p:pic>
        <p:nvPicPr>
          <p:cNvPr id="198" name="Picture 5" descr="is?702178261566">
            <a:hlinkClick r:id="rId1"/>
          </p:cNvPr>
          <p:cNvPicPr/>
          <p:nvPr/>
        </p:nvPicPr>
        <p:blipFill>
          <a:blip r:embed="rId2"/>
          <a:stretch/>
        </p:blipFill>
        <p:spPr>
          <a:xfrm>
            <a:off x="6400800" y="4924440"/>
            <a:ext cx="2133720" cy="1666800"/>
          </a:xfrm>
          <a:prstGeom prst="rect">
            <a:avLst/>
          </a:prstGeom>
          <a:ln w="0">
            <a:noFill/>
          </a:ln>
        </p:spPr>
      </p:pic>
      <p:sp>
        <p:nvSpPr>
          <p:cNvPr id="19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DD4A-5DB2-4D18-880C-F65D5319EF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pic>
        <p:nvPicPr>
          <p:cNvPr id="201" name="Picture 6" descr=""/>
          <p:cNvPicPr/>
          <p:nvPr/>
        </p:nvPicPr>
        <p:blipFill>
          <a:blip r:embed="rId1"/>
          <a:stretch/>
        </p:blipFill>
        <p:spPr>
          <a:xfrm>
            <a:off x="914400" y="1836720"/>
            <a:ext cx="7391520" cy="3878280"/>
          </a:xfrm>
          <a:prstGeom prst="rect">
            <a:avLst/>
          </a:prstGeom>
          <a:ln w="0">
            <a:noFill/>
          </a:ln>
        </p:spPr>
      </p:pic>
      <p:sp>
        <p:nvSpPr>
          <p:cNvPr id="202" name="Text Box 7"/>
          <p:cNvSpPr/>
          <p:nvPr/>
        </p:nvSpPr>
        <p:spPr>
          <a:xfrm>
            <a:off x="914400" y="6019920"/>
            <a:ext cx="7467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hode Ray Tube or Crooke’s Tube</a:t>
            </a:r>
            <a:endParaRPr b="0" lang="en-US" sz="3000" spc="-1" strike="noStrike">
              <a:solidFill>
                <a:srgbClr val="000000"/>
              </a:solidFill>
              <a:latin typeface="Arial"/>
            </a:endParaRPr>
          </a:p>
        </p:txBody>
      </p:sp>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4D72-C5E1-40D0-95E1-2C9DA6004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urrent was passed through the cathode ray tube, the surface of the tube directly opposite the cathode glow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ought that this glow was caused by a steam of particles called a cathode r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y traveled from cathode (negative) to anode (positive).</a:t>
            </a:r>
            <a:endParaRPr b="0" lang="en-US" sz="3200" spc="-1" strike="noStrike">
              <a:solidFill>
                <a:srgbClr val="000000"/>
              </a:solidFill>
              <a:latin typeface="Arial"/>
            </a:endParaRPr>
          </a:p>
        </p:txBody>
      </p:sp>
      <p:pic>
        <p:nvPicPr>
          <p:cNvPr id="206" name="Picture 5" descr="is?7001082979393">
            <a:hlinkClick r:id="rId1"/>
          </p:cNvPr>
          <p:cNvPicPr/>
          <p:nvPr/>
        </p:nvPicPr>
        <p:blipFill>
          <a:blip r:embed="rId2"/>
          <a:stretch/>
        </p:blipFill>
        <p:spPr>
          <a:xfrm>
            <a:off x="4800600" y="5562720"/>
            <a:ext cx="1828800" cy="1014120"/>
          </a:xfrm>
          <a:prstGeom prst="rect">
            <a:avLst/>
          </a:prstGeom>
          <a:ln w="0">
            <a:noFill/>
          </a:ln>
        </p:spPr>
      </p:pic>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DA93-21A7-4084-AF7D-5AB271E9D2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thode-Ray Experiment Accomplishments</a:t>
            </a:r>
            <a:endParaRPr b="0" lang="en-US" sz="40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d that the atom was divisible &amp; that all atoms contain electr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tradicted Dalton’s Atomic Theory.</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s Plum Pudding Model of the Atom</a:t>
            </a:r>
            <a:endParaRPr b="0" lang="en-US" sz="2800" spc="-1" strike="noStrike">
              <a:solidFill>
                <a:srgbClr val="000000"/>
              </a:solidFill>
              <a:latin typeface="Arial"/>
            </a:endParaRPr>
          </a:p>
        </p:txBody>
      </p:sp>
      <p:pic>
        <p:nvPicPr>
          <p:cNvPr id="210" name="Picture 5" descr="AS_Thomson_atom"/>
          <p:cNvPicPr/>
          <p:nvPr/>
        </p:nvPicPr>
        <p:blipFill>
          <a:blip r:embed="rId1"/>
          <a:stretch/>
        </p:blipFill>
        <p:spPr>
          <a:xfrm>
            <a:off x="2971800" y="4648320"/>
            <a:ext cx="3600360" cy="2004840"/>
          </a:xfrm>
          <a:prstGeom prst="rect">
            <a:avLst/>
          </a:prstGeom>
          <a:ln w="0">
            <a:noFill/>
          </a:ln>
        </p:spPr>
      </p:pic>
      <p:sp>
        <p:nvSpPr>
          <p:cNvPr id="2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4389-B0F9-4465-B244-D95E01468D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charged objects deflected the rays aw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it was determined that the particles making up the cathode ray were negatively charged.</a:t>
            </a:r>
            <a:endParaRPr b="0" lang="en-US" sz="3200" spc="-1" strike="noStrike">
              <a:solidFill>
                <a:srgbClr val="000000"/>
              </a:solidFill>
              <a:latin typeface="Arial"/>
            </a:endParaRPr>
          </a:p>
        </p:txBody>
      </p:sp>
      <p:pic>
        <p:nvPicPr>
          <p:cNvPr id="214" name="Picture 7" descr="AS_CRT_tube"/>
          <p:cNvPicPr/>
          <p:nvPr/>
        </p:nvPicPr>
        <p:blipFill>
          <a:blip r:embed="rId1"/>
          <a:stretch/>
        </p:blipFill>
        <p:spPr>
          <a:xfrm>
            <a:off x="3048120" y="4572000"/>
            <a:ext cx="3219480" cy="2146320"/>
          </a:xfrm>
          <a:prstGeom prst="rect">
            <a:avLst/>
          </a:prstGeom>
          <a:ln w="0">
            <a:noFill/>
          </a:ln>
        </p:spPr>
      </p:pic>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B8E0-1DBE-4043-9C5A-3B055F84AF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obert A. Millikan</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09, Robert Millikan performed an Oil Drop Experiment &amp; measured the charge of the electron.  </a:t>
            </a:r>
            <a:endParaRPr b="0" lang="en-US" sz="3200" spc="-1" strike="noStrike">
              <a:solidFill>
                <a:srgbClr val="000000"/>
              </a:solidFill>
              <a:latin typeface="Arial"/>
            </a:endParaRPr>
          </a:p>
        </p:txBody>
      </p:sp>
      <p:pic>
        <p:nvPicPr>
          <p:cNvPr id="218" name="Picture 7" descr="The Oil-Drop Experiment Apparatus"/>
          <p:cNvPicPr/>
          <p:nvPr/>
        </p:nvPicPr>
        <p:blipFill>
          <a:blip r:embed="rId1"/>
          <a:stretch/>
        </p:blipFill>
        <p:spPr>
          <a:xfrm>
            <a:off x="2133720" y="3581280"/>
            <a:ext cx="4857480" cy="2892600"/>
          </a:xfrm>
          <a:prstGeom prst="rect">
            <a:avLst/>
          </a:prstGeom>
          <a:ln w="0">
            <a:noFill/>
          </a:ln>
        </p:spPr>
      </p:pic>
      <p:sp>
        <p:nvSpPr>
          <p:cNvPr id="2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9D70-1E67-40AF-AD17-A7CBFE0922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kan dropped negatively charge microscopic oil particles into a chamber containing metallic plates &amp; viewed them with a microscop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pplying voltage to the metallic plates, Millikan created an electric fie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ble to suspend the oil droplets by adjusting the electric field to the appropriate strength &amp; direction to overcome gravity.</a:t>
            </a:r>
            <a:endParaRPr b="0" lang="en-US" sz="2800" spc="-1" strike="noStrike">
              <a:solidFill>
                <a:srgbClr val="000000"/>
              </a:solidFill>
              <a:latin typeface="Arial"/>
            </a:endParaRPr>
          </a:p>
        </p:txBody>
      </p:sp>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B800-4D4B-442C-BDAC-822DF6C94C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mass of the droplets &amp; the strength of the electric field necessary to suspend them, he was able to calculated the charge of the electr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ticed that the charge was always a whole-number multiple of 1.602 X10</a:t>
            </a:r>
            <a:r>
              <a:rPr b="0" lang="en-US" sz="2800" spc="-1" strike="noStrike" baseline="30000">
                <a:solidFill>
                  <a:srgbClr val="000000"/>
                </a:solidFill>
                <a:latin typeface="Arial"/>
              </a:rPr>
              <a:t>-19</a:t>
            </a:r>
            <a:r>
              <a:rPr b="0" lang="en-US" sz="2800" spc="-1" strike="noStrike">
                <a:solidFill>
                  <a:srgbClr val="000000"/>
                </a:solidFill>
                <a:latin typeface="Arial"/>
              </a:rPr>
              <a:t> Coulomb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termined that the charge of the electron to be 1.602 X 10</a:t>
            </a:r>
            <a:r>
              <a:rPr b="0" lang="en-US" sz="2800" spc="-1" strike="noStrike" baseline="30000">
                <a:solidFill>
                  <a:srgbClr val="000000"/>
                </a:solidFill>
                <a:latin typeface="Arial"/>
              </a:rPr>
              <a:t>-19</a:t>
            </a:r>
            <a:r>
              <a:rPr b="0" lang="en-US" sz="2800" spc="-1" strike="noStrike">
                <a:solidFill>
                  <a:srgbClr val="000000"/>
                </a:solidFill>
                <a:latin typeface="Arial"/>
              </a:rPr>
              <a:t> C.</a:t>
            </a:r>
            <a:endParaRPr b="0" lang="en-US" sz="2800" spc="-1" strike="noStrike">
              <a:solidFill>
                <a:srgbClr val="000000"/>
              </a:solidFill>
              <a:latin typeface="Arial"/>
            </a:endParaRPr>
          </a:p>
        </p:txBody>
      </p:sp>
      <p:sp>
        <p:nvSpPr>
          <p:cNvPr id="2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F24C-4C68-4D19-9669-11E31CAAB3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ucleus</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1, Ernest Rutherford performed a Gold Foil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mp; his colleagues bombarded a thin piece of god foil with fast moving positively charged alpha particles.</a:t>
            </a:r>
            <a:endParaRPr b="0" lang="en-US" sz="3200" spc="-1" strike="noStrike">
              <a:solidFill>
                <a:srgbClr val="000000"/>
              </a:solidFill>
              <a:latin typeface="Arial"/>
            </a:endParaRPr>
          </a:p>
        </p:txBody>
      </p:sp>
      <p:pic>
        <p:nvPicPr>
          <p:cNvPr id="228" name="Picture 5" descr="is?418277438207">
            <a:hlinkClick r:id="rId1"/>
          </p:cNvPr>
          <p:cNvPicPr/>
          <p:nvPr/>
        </p:nvPicPr>
        <p:blipFill>
          <a:blip r:embed="rId2"/>
          <a:stretch/>
        </p:blipFill>
        <p:spPr>
          <a:xfrm>
            <a:off x="6095880" y="4648320"/>
            <a:ext cx="1981440" cy="1981080"/>
          </a:xfrm>
          <a:prstGeom prst="rect">
            <a:avLst/>
          </a:prstGeom>
          <a:ln w="0">
            <a:noFill/>
          </a:ln>
        </p:spPr>
      </p:pic>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D08D-6BB9-4E06-A5C7-8B97F9FD8A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fferent Group Names</a:t>
            </a:r>
            <a:endParaRPr b="0" lang="en-US" sz="4400" spc="-1" strike="noStrike">
              <a:solidFill>
                <a:srgbClr val="000000"/>
              </a:solidFill>
              <a:latin typeface="Arial"/>
            </a:endParaRPr>
          </a:p>
        </p:txBody>
      </p:sp>
      <p:sp>
        <p:nvSpPr>
          <p:cNvPr id="120" name="PlaceHolder 2"/>
          <p:cNvSpPr>
            <a:spLocks noGrp="1"/>
          </p:cNvSpPr>
          <p:nvPr>
            <p:ph/>
          </p:nvPr>
        </p:nvSpPr>
        <p:spPr>
          <a:xfrm>
            <a:off x="533160" y="1371240"/>
            <a:ext cx="7543800" cy="1600200"/>
          </a:xfrm>
          <a:prstGeom prst="rect">
            <a:avLst/>
          </a:prstGeom>
          <a:noFill/>
          <a:ln w="0">
            <a:noFill/>
          </a:ln>
        </p:spPr>
        <p:txBody>
          <a:bodyPr anchor="t">
            <a:normAutofit fontScale="33000"/>
          </a:bodyPr>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Groups 1A, 2A, 4A, 5A, 6A, 7A  &amp; 8A</a:t>
            </a:r>
            <a:endParaRPr b="0" lang="en-US" sz="3000" spc="-1" strike="noStrike">
              <a:solidFill>
                <a:srgbClr val="000000"/>
              </a:solidFill>
              <a:latin typeface="Arial"/>
            </a:endParaRPr>
          </a:p>
          <a:p>
            <a:pPr marL="11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1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1A – </a:t>
            </a:r>
            <a:r>
              <a:rPr b="0" lang="en-US" sz="3000" spc="-1" strike="noStrike">
                <a:solidFill>
                  <a:srgbClr val="000000"/>
                </a:solidFill>
                <a:latin typeface="Calibri"/>
              </a:rPr>
              <a:t>the alkali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2A</a:t>
            </a:r>
            <a:r>
              <a:rPr b="0" lang="en-US" sz="3000" spc="-1" strike="noStrike">
                <a:solidFill>
                  <a:srgbClr val="000000"/>
                </a:solidFill>
                <a:latin typeface="Calibri"/>
              </a:rPr>
              <a:t> – the alkaline earth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4A</a:t>
            </a:r>
            <a:r>
              <a:rPr b="0" lang="en-US" sz="3000" spc="-1" strike="noStrike">
                <a:solidFill>
                  <a:srgbClr val="000000"/>
                </a:solidFill>
                <a:latin typeface="Calibri"/>
              </a:rPr>
              <a:t> – the carbo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5A</a:t>
            </a:r>
            <a:r>
              <a:rPr b="0" lang="en-US" sz="3000" spc="-1" strike="noStrike">
                <a:solidFill>
                  <a:srgbClr val="000000"/>
                </a:solidFill>
                <a:latin typeface="Calibri"/>
              </a:rPr>
              <a:t> – the nitroge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6A</a:t>
            </a:r>
            <a:r>
              <a:rPr b="0" lang="en-US" sz="3000" spc="-1" strike="noStrike">
                <a:solidFill>
                  <a:srgbClr val="000000"/>
                </a:solidFill>
                <a:latin typeface="Calibri"/>
              </a:rPr>
              <a:t> – the oxygen family (chalc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7A</a:t>
            </a:r>
            <a:r>
              <a:rPr b="0" lang="en-US" sz="3000" spc="-1" strike="noStrike">
                <a:solidFill>
                  <a:srgbClr val="000000"/>
                </a:solidFill>
                <a:latin typeface="Calibri"/>
              </a:rPr>
              <a:t> – the hal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8A</a:t>
            </a:r>
            <a:r>
              <a:rPr b="0" lang="en-US" sz="3000" spc="-1" strike="noStrike">
                <a:solidFill>
                  <a:srgbClr val="000000"/>
                </a:solidFill>
                <a:latin typeface="Calibri"/>
              </a:rPr>
              <a:t> – the noble gases</a:t>
            </a:r>
            <a:endParaRPr b="0" lang="en-US" sz="3000" spc="-1" strike="noStrike">
              <a:solidFill>
                <a:srgbClr val="000000"/>
              </a:solidFill>
              <a:latin typeface="Arial"/>
            </a:endParaRPr>
          </a:p>
        </p:txBody>
      </p:sp>
      <p:sp>
        <p:nvSpPr>
          <p:cNvPr id="121" name="Rectangle 4"/>
          <p:cNvSpPr/>
          <p:nvPr/>
        </p:nvSpPr>
        <p:spPr>
          <a:xfrm>
            <a:off x="5589720" y="511776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2979-6B7D-468A-BB38-9BAE208AE5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9" dur="500"/>
                                        <p:tgtEl>
                                          <p:spTgt spid="12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24" dur="500"/>
                                        <p:tgtEl>
                                          <p:spTgt spid="120">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29" dur="500"/>
                                        <p:tgtEl>
                                          <p:spTgt spid="120">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34" dur="500"/>
                                        <p:tgtEl>
                                          <p:spTgt spid="120">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39" dur="500"/>
                                        <p:tgtEl>
                                          <p:spTgt spid="120">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xEl>
                                              <p:pRg st="7" end="7"/>
                                            </p:txEl>
                                          </p:spTgt>
                                        </p:tgtEl>
                                        <p:attrNameLst>
                                          <p:attrName>style.visibility</p:attrName>
                                        </p:attrNameLst>
                                      </p:cBhvr>
                                      <p:to>
                                        <p:strVal val="visible"/>
                                      </p:to>
                                    </p:set>
                                    <p:animEffect filter="blinds(horizontal)" transition="in">
                                      <p:cBhvr additive="repl">
                                        <p:cTn id="44" dur="500"/>
                                        <p:tgtEl>
                                          <p:spTgt spid="120">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49" dur="500"/>
                                        <p:tgtEl>
                                          <p:spTgt spid="120">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0">
                                            <p:txEl>
                                              <p:pRg st="9" end="9"/>
                                            </p:txEl>
                                          </p:spTgt>
                                        </p:tgtEl>
                                        <p:attrNameLst>
                                          <p:attrName>style.visibility</p:attrName>
                                        </p:attrNameLst>
                                      </p:cBhvr>
                                      <p:to>
                                        <p:strVal val="visible"/>
                                      </p:to>
                                    </p:set>
                                    <p:animEffect filter="blinds(horizontal)" transition="in">
                                      <p:cBhvr additive="repl">
                                        <p:cTn id="54" dur="500"/>
                                        <p:tgtEl>
                                          <p:spTgt spid="1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pic>
        <p:nvPicPr>
          <p:cNvPr id="231" name="Picture 4" descr=""/>
          <p:cNvPicPr/>
          <p:nvPr/>
        </p:nvPicPr>
        <p:blipFill>
          <a:blip r:embed="rId1"/>
          <a:stretch/>
        </p:blipFill>
        <p:spPr>
          <a:xfrm>
            <a:off x="838080" y="1905120"/>
            <a:ext cx="7224840" cy="4584600"/>
          </a:xfrm>
          <a:prstGeom prst="rect">
            <a:avLst/>
          </a:prstGeom>
          <a:ln w="0">
            <a:noFill/>
          </a:ln>
        </p:spPr>
      </p:pic>
      <p:sp>
        <p:nvSpPr>
          <p:cNvPr id="23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2297-0917-4C1B-AB2C-D375E1AF76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Ink 4"/>
          <p:cNvSpPr/>
          <p:nvPr/>
        </p:nvSpPr>
        <p:spPr>
          <a:xfrm>
            <a:off x="2313000" y="2259000"/>
            <a:ext cx="4633920" cy="3332160"/>
          </a:xfrm>
          <a:custGeom>
            <a:avLst/>
            <a:gdLst/>
            <a:ahLst/>
            <a:rect l="l" t="t" r="r" b="b"/>
            <a:pathLst>
              <a:path w="12875" h="9253">
                <a:moveTo>
                  <a:pt x="14387" y="9699"/>
                </a:moveTo>
                <a:lnTo>
                  <a:pt x="14387" y="9699"/>
                </a:lnTo>
              </a:path>
              <a:path w="12875" h="9253">
                <a:moveTo>
                  <a:pt x="14610" y="9624"/>
                </a:moveTo>
                <a:cubicBezTo>
                  <a:pt x="14642" y="9611"/>
                  <a:pt x="14680" y="9618"/>
                  <a:pt x="14709" y="9599"/>
                </a:cubicBezTo>
                <a:cubicBezTo>
                  <a:pt x="14748" y="9573"/>
                  <a:pt x="14769" y="9503"/>
                  <a:pt x="14808" y="9475"/>
                </a:cubicBezTo>
                <a:cubicBezTo>
                  <a:pt x="14842" y="9451"/>
                  <a:pt x="14928" y="9431"/>
                  <a:pt x="14957" y="9401"/>
                </a:cubicBezTo>
                <a:cubicBezTo>
                  <a:pt x="15014" y="9342"/>
                  <a:pt x="15050" y="9308"/>
                  <a:pt x="15106" y="9252"/>
                </a:cubicBezTo>
                <a:cubicBezTo>
                  <a:pt x="15142" y="9216"/>
                  <a:pt x="15199" y="9186"/>
                  <a:pt x="15255" y="9153"/>
                </a:cubicBezTo>
                <a:cubicBezTo>
                  <a:pt x="15315" y="9117"/>
                  <a:pt x="15354" y="9070"/>
                  <a:pt x="15404" y="9029"/>
                </a:cubicBezTo>
                <a:cubicBezTo>
                  <a:pt x="15460" y="8983"/>
                  <a:pt x="15520" y="8968"/>
                  <a:pt x="15577" y="8930"/>
                </a:cubicBezTo>
                <a:cubicBezTo>
                  <a:pt x="15629" y="8896"/>
                  <a:pt x="15702" y="8842"/>
                  <a:pt x="15751" y="8806"/>
                </a:cubicBezTo>
                <a:cubicBezTo>
                  <a:pt x="15806" y="8765"/>
                  <a:pt x="15865" y="8716"/>
                  <a:pt x="15925" y="8682"/>
                </a:cubicBezTo>
                <a:cubicBezTo>
                  <a:pt x="16037" y="8617"/>
                  <a:pt x="16139" y="8548"/>
                  <a:pt x="16247" y="8483"/>
                </a:cubicBezTo>
                <a:cubicBezTo>
                  <a:pt x="16334" y="8431"/>
                  <a:pt x="16433" y="8382"/>
                  <a:pt x="16520" y="8334"/>
                </a:cubicBezTo>
                <a:cubicBezTo>
                  <a:pt x="16624" y="8277"/>
                  <a:pt x="16721" y="8227"/>
                  <a:pt x="16818" y="8161"/>
                </a:cubicBezTo>
                <a:cubicBezTo>
                  <a:pt x="16880" y="8119"/>
                  <a:pt x="16958" y="8085"/>
                  <a:pt x="17016" y="8037"/>
                </a:cubicBezTo>
                <a:cubicBezTo>
                  <a:pt x="17077" y="7986"/>
                  <a:pt x="17117" y="7948"/>
                  <a:pt x="17190" y="7913"/>
                </a:cubicBezTo>
                <a:cubicBezTo>
                  <a:pt x="17243" y="7888"/>
                  <a:pt x="17304" y="7871"/>
                  <a:pt x="17363" y="7838"/>
                </a:cubicBezTo>
                <a:cubicBezTo>
                  <a:pt x="17418" y="7807"/>
                  <a:pt x="17481" y="7773"/>
                  <a:pt x="17537" y="7739"/>
                </a:cubicBezTo>
                <a:cubicBezTo>
                  <a:pt x="17601" y="7700"/>
                  <a:pt x="17643" y="7694"/>
                  <a:pt x="17711" y="7665"/>
                </a:cubicBezTo>
                <a:cubicBezTo>
                  <a:pt x="17783" y="7634"/>
                  <a:pt x="17831" y="7571"/>
                  <a:pt x="17884" y="7541"/>
                </a:cubicBezTo>
                <a:cubicBezTo>
                  <a:pt x="17916" y="7523"/>
                  <a:pt x="17977" y="7517"/>
                  <a:pt x="18008" y="7491"/>
                </a:cubicBezTo>
                <a:cubicBezTo>
                  <a:pt x="18045" y="7461"/>
                  <a:pt x="18055" y="7460"/>
                  <a:pt x="18083" y="7441"/>
                </a:cubicBezTo>
              </a:path>
              <a:path w="12875" h="9253">
                <a:moveTo>
                  <a:pt x="14114" y="9624"/>
                </a:moveTo>
                <a:cubicBezTo>
                  <a:pt x="14116" y="9615"/>
                  <a:pt x="14137" y="9571"/>
                  <a:pt x="14139" y="9525"/>
                </a:cubicBezTo>
                <a:cubicBezTo>
                  <a:pt x="14141" y="9465"/>
                  <a:pt x="14120" y="9432"/>
                  <a:pt x="14114" y="9376"/>
                </a:cubicBezTo>
                <a:cubicBezTo>
                  <a:pt x="14091" y="9173"/>
                  <a:pt x="14106" y="8958"/>
                  <a:pt x="14089" y="8756"/>
                </a:cubicBezTo>
                <a:cubicBezTo>
                  <a:pt x="14075" y="8590"/>
                  <a:pt x="14047" y="8424"/>
                  <a:pt x="14015" y="8260"/>
                </a:cubicBezTo>
                <a:cubicBezTo>
                  <a:pt x="13968" y="8016"/>
                  <a:pt x="13887" y="7764"/>
                  <a:pt x="13866" y="7516"/>
                </a:cubicBezTo>
                <a:cubicBezTo>
                  <a:pt x="13853" y="7360"/>
                  <a:pt x="13837" y="7201"/>
                  <a:pt x="13816" y="7045"/>
                </a:cubicBezTo>
                <a:cubicBezTo>
                  <a:pt x="13797" y="6905"/>
                  <a:pt x="13792" y="6761"/>
                  <a:pt x="13767" y="6623"/>
                </a:cubicBezTo>
                <a:cubicBezTo>
                  <a:pt x="13751" y="6538"/>
                  <a:pt x="13721" y="6447"/>
                  <a:pt x="13692" y="6375"/>
                </a:cubicBezTo>
                <a:cubicBezTo>
                  <a:pt x="13673" y="6329"/>
                  <a:pt x="13657" y="6315"/>
                  <a:pt x="13692" y="6276"/>
                </a:cubicBezTo>
                <a:cubicBezTo>
                  <a:pt x="13700" y="6276"/>
                  <a:pt x="13709" y="6276"/>
                  <a:pt x="13717" y="6276"/>
                </a:cubicBezTo>
              </a:path>
              <a:path w="12875" h="9253">
                <a:moveTo>
                  <a:pt x="15081" y="10765"/>
                </a:moveTo>
                <a:cubicBezTo>
                  <a:pt x="15092" y="10772"/>
                  <a:pt x="15132" y="10800"/>
                  <a:pt x="15156" y="10815"/>
                </a:cubicBezTo>
                <a:cubicBezTo>
                  <a:pt x="15212" y="10849"/>
                  <a:pt x="15267" y="10887"/>
                  <a:pt x="15329" y="10914"/>
                </a:cubicBezTo>
                <a:cubicBezTo>
                  <a:pt x="15421" y="10955"/>
                  <a:pt x="15512" y="10994"/>
                  <a:pt x="15602" y="11038"/>
                </a:cubicBezTo>
                <a:cubicBezTo>
                  <a:pt x="15879" y="11173"/>
                  <a:pt x="16168" y="11279"/>
                  <a:pt x="16446" y="11410"/>
                </a:cubicBezTo>
                <a:cubicBezTo>
                  <a:pt x="16653" y="11508"/>
                  <a:pt x="16857" y="11614"/>
                  <a:pt x="17066" y="11708"/>
                </a:cubicBezTo>
                <a:cubicBezTo>
                  <a:pt x="17284" y="11806"/>
                  <a:pt x="17499" y="11917"/>
                  <a:pt x="17711" y="12030"/>
                </a:cubicBezTo>
                <a:cubicBezTo>
                  <a:pt x="18080" y="12226"/>
                  <a:pt x="18440" y="12444"/>
                  <a:pt x="18802" y="12650"/>
                </a:cubicBezTo>
                <a:cubicBezTo>
                  <a:pt x="18928" y="12722"/>
                  <a:pt x="19060" y="12794"/>
                  <a:pt x="19174" y="12874"/>
                </a:cubicBezTo>
                <a:cubicBezTo>
                  <a:pt x="19215" y="12903"/>
                  <a:pt x="19262" y="12926"/>
                  <a:pt x="19298" y="12948"/>
                </a:cubicBezTo>
              </a:path>
              <a:path w="12875" h="9253">
                <a:moveTo>
                  <a:pt x="13568" y="10244"/>
                </a:moveTo>
                <a:cubicBezTo>
                  <a:pt x="13524" y="10252"/>
                  <a:pt x="13495" y="10260"/>
                  <a:pt x="13444" y="10269"/>
                </a:cubicBezTo>
                <a:cubicBezTo>
                  <a:pt x="13371" y="10282"/>
                  <a:pt x="13294" y="10290"/>
                  <a:pt x="13221" y="10294"/>
                </a:cubicBezTo>
                <a:cubicBezTo>
                  <a:pt x="13014" y="10305"/>
                  <a:pt x="12806" y="10306"/>
                  <a:pt x="12601" y="10319"/>
                </a:cubicBezTo>
                <a:cubicBezTo>
                  <a:pt x="12428" y="10330"/>
                  <a:pt x="12253" y="10341"/>
                  <a:pt x="12080" y="10344"/>
                </a:cubicBezTo>
                <a:cubicBezTo>
                  <a:pt x="11872" y="10348"/>
                  <a:pt x="11667" y="10365"/>
                  <a:pt x="11460" y="10368"/>
                </a:cubicBezTo>
                <a:cubicBezTo>
                  <a:pt x="11227" y="10372"/>
                  <a:pt x="10997" y="10407"/>
                  <a:pt x="10765" y="10418"/>
                </a:cubicBezTo>
                <a:cubicBezTo>
                  <a:pt x="10517" y="10430"/>
                  <a:pt x="10269" y="10457"/>
                  <a:pt x="10021" y="10468"/>
                </a:cubicBezTo>
                <a:cubicBezTo>
                  <a:pt x="9781" y="10479"/>
                  <a:pt x="9541" y="10506"/>
                  <a:pt x="9302" y="10517"/>
                </a:cubicBezTo>
                <a:cubicBezTo>
                  <a:pt x="9061" y="10528"/>
                  <a:pt x="8821" y="10536"/>
                  <a:pt x="8582" y="10567"/>
                </a:cubicBezTo>
                <a:cubicBezTo>
                  <a:pt x="8369" y="10594"/>
                  <a:pt x="8153" y="10612"/>
                  <a:pt x="7938" y="10616"/>
                </a:cubicBezTo>
                <a:cubicBezTo>
                  <a:pt x="7767" y="10619"/>
                  <a:pt x="7587" y="10623"/>
                  <a:pt x="7417" y="10641"/>
                </a:cubicBezTo>
                <a:cubicBezTo>
                  <a:pt x="7210" y="10663"/>
                  <a:pt x="7001" y="10680"/>
                  <a:pt x="6796" y="10691"/>
                </a:cubicBezTo>
                <a:cubicBezTo>
                  <a:pt x="6697" y="10697"/>
                  <a:pt x="6642" y="10661"/>
                  <a:pt x="6548" y="10691"/>
                </a:cubicBezTo>
                <a:cubicBezTo>
                  <a:pt x="6548" y="10699"/>
                  <a:pt x="6548" y="10708"/>
                  <a:pt x="6548" y="10716"/>
                </a:cubicBezTo>
              </a:path>
              <a:path w="12875" h="9253">
                <a:moveTo>
                  <a:pt x="13965" y="10492"/>
                </a:moveTo>
                <a:cubicBezTo>
                  <a:pt x="13963" y="10500"/>
                  <a:pt x="13933" y="10523"/>
                  <a:pt x="13940" y="10567"/>
                </a:cubicBezTo>
                <a:cubicBezTo>
                  <a:pt x="13943" y="10587"/>
                  <a:pt x="13958" y="10638"/>
                  <a:pt x="13965" y="10666"/>
                </a:cubicBezTo>
                <a:cubicBezTo>
                  <a:pt x="13981" y="10735"/>
                  <a:pt x="13997" y="10788"/>
                  <a:pt x="13990" y="10864"/>
                </a:cubicBezTo>
                <a:cubicBezTo>
                  <a:pt x="13981" y="10951"/>
                  <a:pt x="13967" y="11042"/>
                  <a:pt x="13965" y="11137"/>
                </a:cubicBezTo>
                <a:cubicBezTo>
                  <a:pt x="13962" y="11256"/>
                  <a:pt x="13940" y="11364"/>
                  <a:pt x="13940" y="11485"/>
                </a:cubicBezTo>
                <a:cubicBezTo>
                  <a:pt x="13940" y="11628"/>
                  <a:pt x="13931" y="11789"/>
                  <a:pt x="13915" y="11931"/>
                </a:cubicBezTo>
                <a:cubicBezTo>
                  <a:pt x="13897" y="12095"/>
                  <a:pt x="13911" y="12264"/>
                  <a:pt x="13891" y="12427"/>
                </a:cubicBezTo>
                <a:cubicBezTo>
                  <a:pt x="13871" y="12593"/>
                  <a:pt x="13866" y="12754"/>
                  <a:pt x="13866" y="12923"/>
                </a:cubicBezTo>
                <a:cubicBezTo>
                  <a:pt x="13866" y="13142"/>
                  <a:pt x="13901" y="13380"/>
                  <a:pt x="13891" y="13593"/>
                </a:cubicBezTo>
                <a:cubicBezTo>
                  <a:pt x="13884" y="13758"/>
                  <a:pt x="13866" y="13921"/>
                  <a:pt x="13866" y="14089"/>
                </a:cubicBezTo>
                <a:cubicBezTo>
                  <a:pt x="13866" y="14251"/>
                  <a:pt x="13829" y="14401"/>
                  <a:pt x="13816" y="14560"/>
                </a:cubicBezTo>
                <a:cubicBezTo>
                  <a:pt x="13806" y="14677"/>
                  <a:pt x="13785" y="14792"/>
                  <a:pt x="13767" y="14908"/>
                </a:cubicBezTo>
                <a:cubicBezTo>
                  <a:pt x="13754" y="14988"/>
                  <a:pt x="13727" y="15075"/>
                  <a:pt x="13717" y="15156"/>
                </a:cubicBezTo>
                <a:cubicBezTo>
                  <a:pt x="13717" y="15180"/>
                  <a:pt x="13717" y="15189"/>
                  <a:pt x="13717" y="15205"/>
                </a:cubicBezTo>
              </a:path>
              <a:path w="12875" h="9253">
                <a:moveTo>
                  <a:pt x="7069" y="10468"/>
                </a:moveTo>
                <a:cubicBezTo>
                  <a:pt x="7033" y="10477"/>
                  <a:pt x="6979" y="10494"/>
                  <a:pt x="6945" y="10517"/>
                </a:cubicBezTo>
                <a:cubicBezTo>
                  <a:pt x="6879" y="10562"/>
                  <a:pt x="6855" y="10561"/>
                  <a:pt x="6772" y="10592"/>
                </a:cubicBezTo>
                <a:cubicBezTo>
                  <a:pt x="6698" y="10620"/>
                  <a:pt x="6625" y="10675"/>
                  <a:pt x="6548" y="10691"/>
                </a:cubicBezTo>
                <a:cubicBezTo>
                  <a:pt x="6496" y="10702"/>
                  <a:pt x="6440" y="10695"/>
                  <a:pt x="6424" y="10740"/>
                </a:cubicBezTo>
                <a:cubicBezTo>
                  <a:pt x="6497" y="10767"/>
                  <a:pt x="6593" y="10782"/>
                  <a:pt x="6672" y="10790"/>
                </a:cubicBezTo>
                <a:cubicBezTo>
                  <a:pt x="6795" y="10803"/>
                  <a:pt x="6923" y="10791"/>
                  <a:pt x="7045" y="10815"/>
                </a:cubicBezTo>
                <a:cubicBezTo>
                  <a:pt x="7166" y="10839"/>
                  <a:pt x="7276" y="10913"/>
                  <a:pt x="7392" y="10939"/>
                </a:cubicBezTo>
                <a:cubicBezTo>
                  <a:pt x="7436" y="10939"/>
                  <a:pt x="7450" y="10936"/>
                  <a:pt x="7466" y="10964"/>
                </a:cubicBezTo>
              </a:path>
              <a:path w="12875" h="9253">
                <a:moveTo>
                  <a:pt x="13915" y="14486"/>
                </a:moveTo>
                <a:cubicBezTo>
                  <a:pt x="13967" y="14503"/>
                  <a:pt x="13920" y="14514"/>
                  <a:pt x="13915" y="14560"/>
                </a:cubicBezTo>
                <a:cubicBezTo>
                  <a:pt x="13909" y="14612"/>
                  <a:pt x="13882" y="14686"/>
                  <a:pt x="13866" y="14734"/>
                </a:cubicBezTo>
                <a:cubicBezTo>
                  <a:pt x="13833" y="14833"/>
                  <a:pt x="13790" y="14907"/>
                  <a:pt x="13767" y="15007"/>
                </a:cubicBezTo>
                <a:cubicBezTo>
                  <a:pt x="13746" y="15097"/>
                  <a:pt x="13730" y="15189"/>
                  <a:pt x="13717" y="15280"/>
                </a:cubicBezTo>
                <a:cubicBezTo>
                  <a:pt x="13705" y="15364"/>
                  <a:pt x="13743" y="15460"/>
                  <a:pt x="13692" y="15528"/>
                </a:cubicBezTo>
                <a:cubicBezTo>
                  <a:pt x="13679" y="15463"/>
                  <a:pt x="13658" y="15394"/>
                  <a:pt x="13643" y="15329"/>
                </a:cubicBezTo>
                <a:cubicBezTo>
                  <a:pt x="13620" y="15229"/>
                  <a:pt x="13579" y="15134"/>
                  <a:pt x="13568" y="15032"/>
                </a:cubicBezTo>
                <a:cubicBezTo>
                  <a:pt x="13557" y="14931"/>
                  <a:pt x="13548" y="14833"/>
                  <a:pt x="13519" y="14734"/>
                </a:cubicBezTo>
                <a:cubicBezTo>
                  <a:pt x="13498" y="14664"/>
                  <a:pt x="13477" y="14607"/>
                  <a:pt x="13469" y="14536"/>
                </a:cubicBezTo>
              </a:path>
              <a:path w="12875" h="9253">
                <a:moveTo>
                  <a:pt x="18157" y="7268"/>
                </a:moveTo>
                <a:cubicBezTo>
                  <a:pt x="18088" y="7323"/>
                  <a:pt x="18011" y="7327"/>
                  <a:pt x="17934" y="7367"/>
                </a:cubicBezTo>
                <a:cubicBezTo>
                  <a:pt x="17810" y="7432"/>
                  <a:pt x="17693" y="7491"/>
                  <a:pt x="17562" y="7541"/>
                </a:cubicBezTo>
                <a:cubicBezTo>
                  <a:pt x="17497" y="7566"/>
                  <a:pt x="17432" y="7590"/>
                  <a:pt x="17363" y="7590"/>
                </a:cubicBezTo>
                <a:cubicBezTo>
                  <a:pt x="17447" y="7517"/>
                  <a:pt x="17534" y="7487"/>
                  <a:pt x="17636" y="7441"/>
                </a:cubicBezTo>
                <a:cubicBezTo>
                  <a:pt x="17775" y="7378"/>
                  <a:pt x="17912" y="7358"/>
                  <a:pt x="18058" y="7317"/>
                </a:cubicBezTo>
                <a:cubicBezTo>
                  <a:pt x="18116" y="7301"/>
                  <a:pt x="18219" y="7270"/>
                  <a:pt x="18281" y="7293"/>
                </a:cubicBezTo>
                <a:cubicBezTo>
                  <a:pt x="18304" y="7315"/>
                  <a:pt x="18309" y="7323"/>
                  <a:pt x="18331" y="7317"/>
                </a:cubicBezTo>
                <a:cubicBezTo>
                  <a:pt x="18283" y="7397"/>
                  <a:pt x="18264" y="7420"/>
                  <a:pt x="18182" y="7491"/>
                </a:cubicBezTo>
                <a:cubicBezTo>
                  <a:pt x="18117" y="7547"/>
                  <a:pt x="18004" y="7678"/>
                  <a:pt x="17983" y="7764"/>
                </a:cubicBezTo>
                <a:cubicBezTo>
                  <a:pt x="17983" y="7805"/>
                  <a:pt x="17991" y="7821"/>
                  <a:pt x="17959" y="7813"/>
                </a:cubicBezTo>
              </a:path>
              <a:path w="12875" h="9253">
                <a:moveTo>
                  <a:pt x="14387" y="9525"/>
                </a:moveTo>
                <a:cubicBezTo>
                  <a:pt x="14387" y="9508"/>
                  <a:pt x="14387" y="9492"/>
                  <a:pt x="14387" y="9475"/>
                </a:cubicBezTo>
                <a:cubicBezTo>
                  <a:pt x="14442" y="9458"/>
                  <a:pt x="14479" y="9445"/>
                  <a:pt x="14536" y="9426"/>
                </a:cubicBezTo>
                <a:cubicBezTo>
                  <a:pt x="14607" y="9402"/>
                  <a:pt x="14622" y="9358"/>
                  <a:pt x="14684" y="9327"/>
                </a:cubicBezTo>
                <a:cubicBezTo>
                  <a:pt x="14753" y="9293"/>
                  <a:pt x="14837" y="9272"/>
                  <a:pt x="14908" y="9227"/>
                </a:cubicBezTo>
                <a:cubicBezTo>
                  <a:pt x="14992" y="9173"/>
                  <a:pt x="15056" y="9086"/>
                  <a:pt x="15131" y="9029"/>
                </a:cubicBezTo>
                <a:cubicBezTo>
                  <a:pt x="15192" y="8982"/>
                  <a:pt x="15288" y="8929"/>
                  <a:pt x="15354" y="8880"/>
                </a:cubicBezTo>
                <a:cubicBezTo>
                  <a:pt x="15430" y="8823"/>
                  <a:pt x="15520" y="8764"/>
                  <a:pt x="15602" y="8706"/>
                </a:cubicBezTo>
                <a:cubicBezTo>
                  <a:pt x="15695" y="8640"/>
                  <a:pt x="15783" y="8571"/>
                  <a:pt x="15875" y="8508"/>
                </a:cubicBezTo>
                <a:cubicBezTo>
                  <a:pt x="15977" y="8438"/>
                  <a:pt x="16072" y="8352"/>
                  <a:pt x="16173" y="8285"/>
                </a:cubicBezTo>
                <a:cubicBezTo>
                  <a:pt x="16286" y="8210"/>
                  <a:pt x="16388" y="8145"/>
                  <a:pt x="16495" y="8062"/>
                </a:cubicBezTo>
                <a:cubicBezTo>
                  <a:pt x="16610" y="7973"/>
                  <a:pt x="16716" y="7911"/>
                  <a:pt x="16842" y="7838"/>
                </a:cubicBezTo>
                <a:cubicBezTo>
                  <a:pt x="16996" y="7749"/>
                  <a:pt x="17135" y="7631"/>
                  <a:pt x="17289" y="7541"/>
                </a:cubicBezTo>
                <a:cubicBezTo>
                  <a:pt x="17391" y="7481"/>
                  <a:pt x="17509" y="7390"/>
                  <a:pt x="17611" y="7342"/>
                </a:cubicBezTo>
                <a:cubicBezTo>
                  <a:pt x="17683" y="7308"/>
                  <a:pt x="17783" y="7265"/>
                  <a:pt x="17859" y="7243"/>
                </a:cubicBezTo>
                <a:cubicBezTo>
                  <a:pt x="17884" y="7243"/>
                  <a:pt x="17892" y="7243"/>
                  <a:pt x="17909" y="7243"/>
                </a:cubicBezTo>
              </a:path>
              <a:path w="12875" h="9253">
                <a:moveTo>
                  <a:pt x="14560" y="9699"/>
                </a:moveTo>
                <a:cubicBezTo>
                  <a:pt x="14618" y="9681"/>
                  <a:pt x="14655" y="9646"/>
                  <a:pt x="14709" y="9624"/>
                </a:cubicBezTo>
                <a:cubicBezTo>
                  <a:pt x="14819" y="9578"/>
                  <a:pt x="14916" y="9524"/>
                  <a:pt x="15007" y="9475"/>
                </a:cubicBezTo>
                <a:cubicBezTo>
                  <a:pt x="15097" y="9427"/>
                  <a:pt x="15193" y="9373"/>
                  <a:pt x="15280" y="9327"/>
                </a:cubicBezTo>
                <a:cubicBezTo>
                  <a:pt x="15424" y="9251"/>
                  <a:pt x="15567" y="9173"/>
                  <a:pt x="15701" y="9079"/>
                </a:cubicBezTo>
                <a:cubicBezTo>
                  <a:pt x="15817" y="8997"/>
                  <a:pt x="15935" y="8937"/>
                  <a:pt x="16049" y="8855"/>
                </a:cubicBezTo>
                <a:cubicBezTo>
                  <a:pt x="16173" y="8766"/>
                  <a:pt x="16292" y="8663"/>
                  <a:pt x="16421" y="8582"/>
                </a:cubicBezTo>
                <a:cubicBezTo>
                  <a:pt x="16556" y="8497"/>
                  <a:pt x="16682" y="8393"/>
                  <a:pt x="16818" y="8310"/>
                </a:cubicBezTo>
                <a:cubicBezTo>
                  <a:pt x="16986" y="8207"/>
                  <a:pt x="17144" y="8086"/>
                  <a:pt x="17314" y="7987"/>
                </a:cubicBezTo>
                <a:cubicBezTo>
                  <a:pt x="17442" y="7913"/>
                  <a:pt x="17565" y="7850"/>
                  <a:pt x="17686" y="7764"/>
                </a:cubicBezTo>
                <a:cubicBezTo>
                  <a:pt x="17800" y="7683"/>
                  <a:pt x="17913" y="7613"/>
                  <a:pt x="18033" y="7541"/>
                </a:cubicBezTo>
                <a:cubicBezTo>
                  <a:pt x="18117" y="7490"/>
                  <a:pt x="18192" y="7449"/>
                  <a:pt x="18281" y="7417"/>
                </a:cubicBezTo>
                <a:cubicBezTo>
                  <a:pt x="18289" y="7417"/>
                  <a:pt x="18298" y="7417"/>
                  <a:pt x="18306" y="7417"/>
                </a:cubicBezTo>
              </a:path>
              <a:path w="12875" h="9253">
                <a:moveTo>
                  <a:pt x="14560" y="9550"/>
                </a:moveTo>
                <a:cubicBezTo>
                  <a:pt x="14638" y="9517"/>
                  <a:pt x="14632" y="9512"/>
                  <a:pt x="14709" y="9451"/>
                </a:cubicBezTo>
                <a:cubicBezTo>
                  <a:pt x="14804" y="9375"/>
                  <a:pt x="14910" y="9331"/>
                  <a:pt x="15007" y="9252"/>
                </a:cubicBezTo>
                <a:cubicBezTo>
                  <a:pt x="15121" y="9160"/>
                  <a:pt x="15246" y="9130"/>
                  <a:pt x="15354" y="9029"/>
                </a:cubicBezTo>
                <a:cubicBezTo>
                  <a:pt x="15463" y="8928"/>
                  <a:pt x="15602" y="8878"/>
                  <a:pt x="15726" y="8781"/>
                </a:cubicBezTo>
                <a:cubicBezTo>
                  <a:pt x="15904" y="8642"/>
                  <a:pt x="16082" y="8506"/>
                  <a:pt x="16272" y="8384"/>
                </a:cubicBezTo>
                <a:cubicBezTo>
                  <a:pt x="16429" y="8284"/>
                  <a:pt x="16583" y="8182"/>
                  <a:pt x="16743" y="8086"/>
                </a:cubicBezTo>
                <a:cubicBezTo>
                  <a:pt x="16899" y="7993"/>
                  <a:pt x="17045" y="7898"/>
                  <a:pt x="17190" y="7789"/>
                </a:cubicBezTo>
                <a:cubicBezTo>
                  <a:pt x="17325" y="7688"/>
                  <a:pt x="17472" y="7610"/>
                  <a:pt x="17611" y="7516"/>
                </a:cubicBezTo>
                <a:cubicBezTo>
                  <a:pt x="17710" y="7449"/>
                  <a:pt x="17826" y="7419"/>
                  <a:pt x="17934" y="7367"/>
                </a:cubicBezTo>
                <a:cubicBezTo>
                  <a:pt x="17988" y="7341"/>
                  <a:pt x="18023" y="7317"/>
                  <a:pt x="18083" y="7317"/>
                </a:cubicBezTo>
                <a:cubicBezTo>
                  <a:pt x="18055" y="7345"/>
                  <a:pt x="18041" y="7354"/>
                  <a:pt x="18008" y="7342"/>
                </a:cubicBezTo>
              </a:path>
              <a:path w="12875" h="9253">
                <a:moveTo>
                  <a:pt x="16297" y="8359"/>
                </a:moveTo>
                <a:cubicBezTo>
                  <a:pt x="16078" y="8498"/>
                  <a:pt x="15866" y="8637"/>
                  <a:pt x="15652" y="8781"/>
                </a:cubicBezTo>
                <a:cubicBezTo>
                  <a:pt x="15491" y="8889"/>
                  <a:pt x="15308" y="8982"/>
                  <a:pt x="15156" y="9103"/>
                </a:cubicBezTo>
                <a:cubicBezTo>
                  <a:pt x="15053" y="9185"/>
                  <a:pt x="14932" y="9250"/>
                  <a:pt x="14833" y="9327"/>
                </a:cubicBezTo>
                <a:cubicBezTo>
                  <a:pt x="14792" y="9359"/>
                  <a:pt x="14779" y="9384"/>
                  <a:pt x="14759" y="9401"/>
                </a:cubicBezTo>
                <a:cubicBezTo>
                  <a:pt x="14787" y="9377"/>
                  <a:pt x="14867" y="9335"/>
                  <a:pt x="14908" y="9302"/>
                </a:cubicBezTo>
                <a:cubicBezTo>
                  <a:pt x="15013" y="9217"/>
                  <a:pt x="15122" y="9153"/>
                  <a:pt x="15230" y="9079"/>
                </a:cubicBezTo>
                <a:cubicBezTo>
                  <a:pt x="15344" y="9001"/>
                  <a:pt x="15458" y="8946"/>
                  <a:pt x="15577" y="8880"/>
                </a:cubicBezTo>
                <a:cubicBezTo>
                  <a:pt x="15635" y="8848"/>
                  <a:pt x="15700" y="8831"/>
                  <a:pt x="15751" y="8806"/>
                </a:cubicBezTo>
                <a:cubicBezTo>
                  <a:pt x="15717" y="8847"/>
                  <a:pt x="15715" y="8842"/>
                  <a:pt x="15677" y="8880"/>
                </a:cubicBezTo>
                <a:cubicBezTo>
                  <a:pt x="15594" y="8962"/>
                  <a:pt x="15440" y="9044"/>
                  <a:pt x="15329" y="9103"/>
                </a:cubicBezTo>
                <a:cubicBezTo>
                  <a:pt x="15196" y="9174"/>
                  <a:pt x="15082" y="9233"/>
                  <a:pt x="14957" y="9327"/>
                </a:cubicBezTo>
                <a:cubicBezTo>
                  <a:pt x="14903" y="9368"/>
                  <a:pt x="14740" y="9502"/>
                  <a:pt x="14684" y="9525"/>
                </a:cubicBezTo>
                <a:cubicBezTo>
                  <a:pt x="14630" y="9548"/>
                  <a:pt x="14726" y="9509"/>
                  <a:pt x="14709" y="9475"/>
                </a:cubicBezTo>
                <a:cubicBezTo>
                  <a:pt x="14801" y="9402"/>
                  <a:pt x="14887" y="9359"/>
                  <a:pt x="14982" y="9302"/>
                </a:cubicBezTo>
                <a:cubicBezTo>
                  <a:pt x="15118" y="9220"/>
                  <a:pt x="15237" y="9142"/>
                  <a:pt x="15379" y="9079"/>
                </a:cubicBezTo>
                <a:cubicBezTo>
                  <a:pt x="15483" y="9033"/>
                  <a:pt x="15567" y="9021"/>
                  <a:pt x="15677" y="9004"/>
                </a:cubicBezTo>
                <a:cubicBezTo>
                  <a:pt x="15701" y="9004"/>
                  <a:pt x="15710" y="9004"/>
                  <a:pt x="15726" y="9004"/>
                </a:cubicBezTo>
                <a:cubicBezTo>
                  <a:pt x="15644" y="9059"/>
                  <a:pt x="15562" y="9100"/>
                  <a:pt x="15478" y="9153"/>
                </a:cubicBezTo>
                <a:cubicBezTo>
                  <a:pt x="15389" y="9209"/>
                  <a:pt x="15287" y="9296"/>
                  <a:pt x="15180" y="9327"/>
                </a:cubicBezTo>
                <a:cubicBezTo>
                  <a:pt x="15150" y="9336"/>
                  <a:pt x="15112" y="9322"/>
                  <a:pt x="15081" y="9327"/>
                </a:cubicBezTo>
                <a:cubicBezTo>
                  <a:pt x="15136" y="9272"/>
                  <a:pt x="15241" y="9170"/>
                  <a:pt x="15329" y="9103"/>
                </a:cubicBezTo>
                <a:cubicBezTo>
                  <a:pt x="15484" y="8984"/>
                  <a:pt x="15656" y="8902"/>
                  <a:pt x="15825" y="8806"/>
                </a:cubicBezTo>
                <a:cubicBezTo>
                  <a:pt x="16003" y="8705"/>
                  <a:pt x="16169" y="8587"/>
                  <a:pt x="16346" y="8483"/>
                </a:cubicBezTo>
                <a:cubicBezTo>
                  <a:pt x="16512" y="8386"/>
                  <a:pt x="16678" y="8284"/>
                  <a:pt x="16842" y="8186"/>
                </a:cubicBezTo>
                <a:cubicBezTo>
                  <a:pt x="16979" y="8104"/>
                  <a:pt x="17094" y="8011"/>
                  <a:pt x="17239" y="7938"/>
                </a:cubicBezTo>
                <a:cubicBezTo>
                  <a:pt x="17360" y="7877"/>
                  <a:pt x="17469" y="7804"/>
                  <a:pt x="17587" y="7739"/>
                </a:cubicBezTo>
                <a:cubicBezTo>
                  <a:pt x="17673" y="7691"/>
                  <a:pt x="17773" y="7665"/>
                  <a:pt x="17859" y="7615"/>
                </a:cubicBezTo>
                <a:cubicBezTo>
                  <a:pt x="17924" y="7577"/>
                  <a:pt x="17996" y="7533"/>
                  <a:pt x="18058" y="7491"/>
                </a:cubicBezTo>
                <a:cubicBezTo>
                  <a:pt x="18102" y="7462"/>
                  <a:pt x="18144" y="7430"/>
                  <a:pt x="18182" y="7392"/>
                </a:cubicBezTo>
                <a:cubicBezTo>
                  <a:pt x="18198" y="7376"/>
                  <a:pt x="18235" y="7319"/>
                  <a:pt x="18256" y="7293"/>
                </a:cubicBezTo>
                <a:cubicBezTo>
                  <a:pt x="18280" y="7264"/>
                  <a:pt x="18294" y="7234"/>
                  <a:pt x="18306" y="7218"/>
                </a:cubicBezTo>
                <a:cubicBezTo>
                  <a:pt x="18264" y="7223"/>
                  <a:pt x="18281" y="7193"/>
                  <a:pt x="18207" y="7218"/>
                </a:cubicBezTo>
                <a:cubicBezTo>
                  <a:pt x="18035" y="7275"/>
                  <a:pt x="17895" y="7371"/>
                  <a:pt x="17711" y="7392"/>
                </a:cubicBezTo>
                <a:cubicBezTo>
                  <a:pt x="17651" y="7399"/>
                  <a:pt x="17601" y="7368"/>
                  <a:pt x="17587" y="7367"/>
                </a:cubicBezTo>
                <a:cubicBezTo>
                  <a:pt x="17668" y="7315"/>
                  <a:pt x="17747" y="7263"/>
                  <a:pt x="17835" y="7218"/>
                </a:cubicBezTo>
                <a:cubicBezTo>
                  <a:pt x="17945" y="7162"/>
                  <a:pt x="18076" y="7130"/>
                  <a:pt x="18182" y="7069"/>
                </a:cubicBezTo>
                <a:cubicBezTo>
                  <a:pt x="18204" y="7057"/>
                  <a:pt x="18225" y="7023"/>
                  <a:pt x="18231" y="7020"/>
                </a:cubicBezTo>
                <a:cubicBezTo>
                  <a:pt x="18136" y="7044"/>
                  <a:pt x="18032" y="7064"/>
                  <a:pt x="17934" y="7094"/>
                </a:cubicBezTo>
                <a:cubicBezTo>
                  <a:pt x="17761" y="7147"/>
                  <a:pt x="17587" y="7223"/>
                  <a:pt x="17413" y="7268"/>
                </a:cubicBezTo>
                <a:cubicBezTo>
                  <a:pt x="17270" y="7305"/>
                  <a:pt x="17111" y="7339"/>
                  <a:pt x="16966" y="7367"/>
                </a:cubicBezTo>
                <a:cubicBezTo>
                  <a:pt x="16958" y="7367"/>
                  <a:pt x="16950" y="7367"/>
                  <a:pt x="16942" y="7367"/>
                </a:cubicBezTo>
                <a:cubicBezTo>
                  <a:pt x="17022" y="7327"/>
                  <a:pt x="17104" y="7280"/>
                  <a:pt x="17190" y="7243"/>
                </a:cubicBezTo>
                <a:cubicBezTo>
                  <a:pt x="17363" y="7169"/>
                  <a:pt x="17526" y="7127"/>
                  <a:pt x="17711" y="7094"/>
                </a:cubicBezTo>
                <a:cubicBezTo>
                  <a:pt x="17865" y="7067"/>
                  <a:pt x="18029" y="7031"/>
                  <a:pt x="18182" y="7020"/>
                </a:cubicBezTo>
                <a:cubicBezTo>
                  <a:pt x="18231" y="7016"/>
                  <a:pt x="18282" y="7022"/>
                  <a:pt x="18331" y="7020"/>
                </a:cubicBezTo>
                <a:cubicBezTo>
                  <a:pt x="18252" y="7041"/>
                  <a:pt x="18149" y="7075"/>
                  <a:pt x="18058" y="7094"/>
                </a:cubicBezTo>
                <a:cubicBezTo>
                  <a:pt x="17887" y="7130"/>
                  <a:pt x="17730" y="7175"/>
                  <a:pt x="17562" y="7218"/>
                </a:cubicBezTo>
                <a:cubicBezTo>
                  <a:pt x="17462" y="7244"/>
                  <a:pt x="17360" y="7269"/>
                  <a:pt x="17264" y="7293"/>
                </a:cubicBezTo>
                <a:cubicBezTo>
                  <a:pt x="17357" y="7251"/>
                  <a:pt x="17460" y="7201"/>
                  <a:pt x="17562" y="7169"/>
                </a:cubicBezTo>
                <a:cubicBezTo>
                  <a:pt x="17737" y="7114"/>
                  <a:pt x="17903" y="7082"/>
                  <a:pt x="18083" y="7045"/>
                </a:cubicBezTo>
                <a:cubicBezTo>
                  <a:pt x="18217" y="7018"/>
                  <a:pt x="18340" y="6983"/>
                  <a:pt x="18479" y="6995"/>
                </a:cubicBezTo>
                <a:cubicBezTo>
                  <a:pt x="18537" y="7000"/>
                  <a:pt x="18558" y="7032"/>
                  <a:pt x="18604" y="7045"/>
                </a:cubicBezTo>
                <a:cubicBezTo>
                  <a:pt x="18577" y="7111"/>
                  <a:pt x="18577" y="7153"/>
                  <a:pt x="18529" y="7218"/>
                </a:cubicBezTo>
                <a:cubicBezTo>
                  <a:pt x="18387" y="7408"/>
                  <a:pt x="18204" y="7579"/>
                  <a:pt x="18058" y="7764"/>
                </a:cubicBezTo>
                <a:cubicBezTo>
                  <a:pt x="18002" y="7835"/>
                  <a:pt x="17996" y="7856"/>
                  <a:pt x="17959" y="7938"/>
                </a:cubicBezTo>
                <a:cubicBezTo>
                  <a:pt x="18004" y="7830"/>
                  <a:pt x="18067" y="7725"/>
                  <a:pt x="18107" y="7615"/>
                </a:cubicBezTo>
                <a:cubicBezTo>
                  <a:pt x="18147" y="7505"/>
                  <a:pt x="18198" y="7422"/>
                  <a:pt x="18256" y="7317"/>
                </a:cubicBezTo>
                <a:cubicBezTo>
                  <a:pt x="18290" y="7255"/>
                  <a:pt x="18339" y="7201"/>
                  <a:pt x="18380" y="7144"/>
                </a:cubicBezTo>
                <a:cubicBezTo>
                  <a:pt x="18403" y="7113"/>
                  <a:pt x="18357" y="7175"/>
                  <a:pt x="18380" y="7144"/>
                </a:cubicBezTo>
                <a:cubicBezTo>
                  <a:pt x="18306" y="7240"/>
                  <a:pt x="18221" y="7336"/>
                  <a:pt x="18157" y="7441"/>
                </a:cubicBezTo>
                <a:cubicBezTo>
                  <a:pt x="18092" y="7548"/>
                  <a:pt x="18023" y="7658"/>
                  <a:pt x="17959" y="7764"/>
                </a:cubicBezTo>
                <a:cubicBezTo>
                  <a:pt x="17937" y="7786"/>
                  <a:pt x="17928" y="7791"/>
                  <a:pt x="17934" y="7813"/>
                </a:cubicBezTo>
                <a:cubicBezTo>
                  <a:pt x="17956" y="7742"/>
                  <a:pt x="17973" y="7630"/>
                  <a:pt x="18008" y="7565"/>
                </a:cubicBezTo>
                <a:cubicBezTo>
                  <a:pt x="18080" y="7470"/>
                  <a:pt x="18103" y="7441"/>
                  <a:pt x="18132" y="7367"/>
                </a:cubicBezTo>
              </a:path>
              <a:path w="12875" h="9253">
                <a:moveTo>
                  <a:pt x="18281" y="7144"/>
                </a:moveTo>
                <a:cubicBezTo>
                  <a:pt x="18306" y="7119"/>
                  <a:pt x="18314" y="7111"/>
                  <a:pt x="18331" y="7094"/>
                </a:cubicBezTo>
                <a:cubicBezTo>
                  <a:pt x="18276" y="7138"/>
                  <a:pt x="18193" y="7216"/>
                  <a:pt x="18132" y="7243"/>
                </a:cubicBezTo>
                <a:cubicBezTo>
                  <a:pt x="18020" y="7293"/>
                  <a:pt x="17903" y="7329"/>
                  <a:pt x="17785" y="7367"/>
                </a:cubicBezTo>
                <a:cubicBezTo>
                  <a:pt x="17719" y="7388"/>
                  <a:pt x="17680" y="7392"/>
                  <a:pt x="17611" y="7392"/>
                </a:cubicBezTo>
                <a:cubicBezTo>
                  <a:pt x="17626" y="7332"/>
                  <a:pt x="17689" y="7289"/>
                  <a:pt x="17735" y="7243"/>
                </a:cubicBezTo>
              </a:path>
              <a:path w="12875" h="9253">
                <a:moveTo>
                  <a:pt x="18182" y="7119"/>
                </a:moveTo>
                <a:cubicBezTo>
                  <a:pt x="18198" y="7119"/>
                  <a:pt x="18215" y="7119"/>
                  <a:pt x="18231" y="7119"/>
                </a:cubicBezTo>
                <a:cubicBezTo>
                  <a:pt x="18139" y="7119"/>
                  <a:pt x="18072" y="7168"/>
                  <a:pt x="17983" y="7193"/>
                </a:cubicBezTo>
                <a:cubicBezTo>
                  <a:pt x="17830" y="7236"/>
                  <a:pt x="17670" y="7296"/>
                  <a:pt x="17512" y="7317"/>
                </a:cubicBezTo>
                <a:cubicBezTo>
                  <a:pt x="17454" y="7317"/>
                  <a:pt x="17446" y="7317"/>
                  <a:pt x="17413" y="7317"/>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5"/>
          <p:cNvSpPr/>
          <p:nvPr/>
        </p:nvSpPr>
        <p:spPr>
          <a:xfrm>
            <a:off x="6750000" y="4527720"/>
            <a:ext cx="304920" cy="204480"/>
          </a:xfrm>
          <a:custGeom>
            <a:avLst/>
            <a:gdLst/>
            <a:ahLst/>
            <a:rect l="l" t="t" r="r" b="b"/>
            <a:pathLst>
              <a:path w="845" h="571">
                <a:moveTo>
                  <a:pt x="18876" y="12576"/>
                </a:moveTo>
                <a:cubicBezTo>
                  <a:pt x="18904" y="12585"/>
                  <a:pt x="18960" y="12622"/>
                  <a:pt x="19000" y="12650"/>
                </a:cubicBezTo>
                <a:cubicBezTo>
                  <a:pt x="19059" y="12691"/>
                  <a:pt x="19089" y="12739"/>
                  <a:pt x="19149" y="12774"/>
                </a:cubicBezTo>
                <a:cubicBezTo>
                  <a:pt x="19222" y="12817"/>
                  <a:pt x="19305" y="12869"/>
                  <a:pt x="19372" y="12923"/>
                </a:cubicBezTo>
                <a:cubicBezTo>
                  <a:pt x="19431" y="12970"/>
                  <a:pt x="19606" y="13136"/>
                  <a:pt x="19571" y="13122"/>
                </a:cubicBezTo>
                <a:cubicBezTo>
                  <a:pt x="19477" y="13084"/>
                  <a:pt x="19358" y="13047"/>
                  <a:pt x="19273" y="12998"/>
                </a:cubicBezTo>
                <a:cubicBezTo>
                  <a:pt x="19157" y="12932"/>
                  <a:pt x="19048" y="12854"/>
                  <a:pt x="18926" y="12799"/>
                </a:cubicBezTo>
                <a:cubicBezTo>
                  <a:pt x="18870" y="12774"/>
                  <a:pt x="18811" y="12737"/>
                  <a:pt x="18752" y="12725"/>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6"/>
          <p:cNvSpPr/>
          <p:nvPr/>
        </p:nvSpPr>
        <p:spPr>
          <a:xfrm>
            <a:off x="4848120" y="2187720"/>
            <a:ext cx="250920" cy="233280"/>
          </a:xfrm>
          <a:custGeom>
            <a:avLst/>
            <a:gdLst/>
            <a:ahLst/>
            <a:rect l="l" t="t" r="r" b="b"/>
            <a:pathLst>
              <a:path w="695" h="646">
                <a:moveTo>
                  <a:pt x="13593" y="6152"/>
                </a:moveTo>
                <a:cubicBezTo>
                  <a:pt x="13548" y="6174"/>
                  <a:pt x="13526" y="6243"/>
                  <a:pt x="13519" y="6300"/>
                </a:cubicBezTo>
                <a:cubicBezTo>
                  <a:pt x="13507" y="6393"/>
                  <a:pt x="13483" y="6484"/>
                  <a:pt x="13469" y="6573"/>
                </a:cubicBezTo>
                <a:cubicBezTo>
                  <a:pt x="13467" y="6585"/>
                  <a:pt x="13469" y="6752"/>
                  <a:pt x="13469" y="6623"/>
                </a:cubicBezTo>
                <a:cubicBezTo>
                  <a:pt x="13469" y="6528"/>
                  <a:pt x="13498" y="6391"/>
                  <a:pt x="13519" y="6300"/>
                </a:cubicBezTo>
                <a:cubicBezTo>
                  <a:pt x="13526" y="6270"/>
                  <a:pt x="13552" y="6125"/>
                  <a:pt x="13568" y="6102"/>
                </a:cubicBezTo>
                <a:cubicBezTo>
                  <a:pt x="13577" y="6090"/>
                  <a:pt x="13644" y="6069"/>
                  <a:pt x="13667" y="6077"/>
                </a:cubicBezTo>
                <a:cubicBezTo>
                  <a:pt x="13746" y="6105"/>
                  <a:pt x="13815" y="6160"/>
                  <a:pt x="13866" y="6226"/>
                </a:cubicBezTo>
                <a:cubicBezTo>
                  <a:pt x="13935" y="6314"/>
                  <a:pt x="13986" y="6407"/>
                  <a:pt x="14039" y="6499"/>
                </a:cubicBezTo>
                <a:cubicBezTo>
                  <a:pt x="14083" y="6575"/>
                  <a:pt x="14146" y="6635"/>
                  <a:pt x="14163" y="6722"/>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xpected, most of the alpha particles passed straight through with little or no defl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1/8000 of the positively charged alpha particles were deflected back at the source.</a:t>
            </a:r>
            <a:endParaRPr b="0" lang="en-US" sz="3200" spc="-1" strike="noStrike">
              <a:solidFill>
                <a:srgbClr val="000000"/>
              </a:solidFill>
              <a:latin typeface="Arial"/>
            </a:endParaRPr>
          </a:p>
        </p:txBody>
      </p:sp>
      <p:pic>
        <p:nvPicPr>
          <p:cNvPr id="238" name="Picture 4" descr=""/>
          <p:cNvPicPr/>
          <p:nvPr/>
        </p:nvPicPr>
        <p:blipFill>
          <a:blip r:embed="rId1"/>
          <a:stretch/>
        </p:blipFill>
        <p:spPr>
          <a:xfrm>
            <a:off x="3124080" y="4552920"/>
            <a:ext cx="3229200" cy="2095560"/>
          </a:xfrm>
          <a:prstGeom prst="rect">
            <a:avLst/>
          </a:prstGeom>
          <a:ln w="0">
            <a:noFill/>
          </a:ln>
        </p:spPr>
      </p:pic>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AD0A-D2E1-461D-A595-04276F72D8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experiment, Rutherford discovered that there must be a very densely packed positively charged  bundle of matter within the atom which caused the defle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lled this positive bundle the nucleus.</a:t>
            </a:r>
            <a:endParaRPr b="0" lang="en-US" sz="3200" spc="-1" strike="noStrike">
              <a:solidFill>
                <a:srgbClr val="000000"/>
              </a:solidFill>
              <a:latin typeface="Arial"/>
            </a:endParaRPr>
          </a:p>
        </p:txBody>
      </p:sp>
      <p:sp>
        <p:nvSpPr>
          <p:cNvPr id="2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A46E-BA6E-45CF-8CD0-F199E92323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ume of the nucleus was very small compared to the volume of the at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most of the atom was composed of empty space.  Niels Bohr later found that this empty space was were the electrons were loc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4" descr=""/>
          <p:cNvPicPr/>
          <p:nvPr/>
        </p:nvPicPr>
        <p:blipFill>
          <a:blip r:embed="rId1"/>
          <a:stretch/>
        </p:blipFill>
        <p:spPr>
          <a:xfrm>
            <a:off x="2590920" y="4343400"/>
            <a:ext cx="3938400" cy="2338560"/>
          </a:xfrm>
          <a:prstGeom prst="rect">
            <a:avLst/>
          </a:prstGeom>
          <a:ln w="0">
            <a:noFill/>
          </a:ln>
        </p:spPr>
      </p:pic>
      <p:sp>
        <p:nvSpPr>
          <p:cNvPr id="2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40D4-4EBF-4F10-B92D-96E0063E25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utherford’s Model of The Atom</a:t>
            </a:r>
            <a:endParaRPr b="0" lang="en-US" sz="4400" spc="-1" strike="noStrike">
              <a:solidFill>
                <a:srgbClr val="000000"/>
              </a:solidFill>
              <a:latin typeface="Arial"/>
            </a:endParaRPr>
          </a:p>
        </p:txBody>
      </p:sp>
      <p:pic>
        <p:nvPicPr>
          <p:cNvPr id="248" name="Picture 5" descr="RutherfordAtom"/>
          <p:cNvPicPr/>
          <p:nvPr/>
        </p:nvPicPr>
        <p:blipFill>
          <a:blip r:embed="rId1"/>
          <a:stretch/>
        </p:blipFill>
        <p:spPr>
          <a:xfrm>
            <a:off x="1676520" y="1752480"/>
            <a:ext cx="5410080" cy="4897440"/>
          </a:xfrm>
          <a:prstGeom prst="rect">
            <a:avLst/>
          </a:prstGeom>
          <a:ln w="0">
            <a:noFill/>
          </a:ln>
        </p:spPr>
      </p:pic>
      <p:sp>
        <p:nvSpPr>
          <p:cNvPr id="24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173C-0E90-4B60-88ED-7170D4023C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ucture of the Atom</a:t>
            </a:r>
            <a:endParaRPr b="0" lang="en-US" sz="4400" spc="-1" strike="noStrike">
              <a:solidFill>
                <a:srgbClr val="000000"/>
              </a:solidFill>
              <a:latin typeface="Arial"/>
            </a:endParaRPr>
          </a:p>
        </p:txBody>
      </p:sp>
      <p:sp>
        <p:nvSpPr>
          <p:cNvPr id="251"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a:t>
            </a:r>
            <a:r>
              <a:rPr b="0" lang="en-US" sz="3200" spc="-1" strike="noStrike">
                <a:solidFill>
                  <a:srgbClr val="000000"/>
                </a:solidFill>
                <a:latin typeface="Calibri"/>
              </a:rPr>
              <a:t>- the smallest particles of an element that retain the chemical properties of that elemen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 is composed of two main regions, the</a:t>
            </a:r>
            <a:r>
              <a:rPr b="1" lang="en-US" sz="3200" spc="-1" strike="noStrike" u="sng">
                <a:solidFill>
                  <a:srgbClr val="000000"/>
                </a:solidFill>
                <a:uFillTx/>
                <a:latin typeface="Calibri"/>
              </a:rPr>
              <a:t> nucleus </a:t>
            </a:r>
            <a:r>
              <a:rPr b="0" lang="en-US" sz="3200" spc="-1" strike="noStrike">
                <a:solidFill>
                  <a:srgbClr val="000000"/>
                </a:solidFill>
                <a:latin typeface="Calibri"/>
              </a:rPr>
              <a:t>and the </a:t>
            </a:r>
            <a:r>
              <a:rPr b="1" lang="en-US" sz="3200" spc="-1" strike="noStrike" u="sng">
                <a:solidFill>
                  <a:srgbClr val="000000"/>
                </a:solidFill>
                <a:uFillTx/>
                <a:latin typeface="Calibri"/>
              </a:rPr>
              <a:t>electron clou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Picture 5" descr="r?t=c&amp;s=p&amp;sv=0a300510&amp;uid=0BC1ACC9982C64134&amp;sid=3444474eb444474eb&amp;o=0&amp;id=30751&amp;p=%2Ffr&amp;u=http%3A%2F%2Fsol"/>
          <p:cNvPicPr/>
          <p:nvPr/>
        </p:nvPicPr>
        <p:blipFill>
          <a:blip r:embed="rId1"/>
          <a:stretch/>
        </p:blipFill>
        <p:spPr>
          <a:xfrm>
            <a:off x="3581280" y="4683240"/>
            <a:ext cx="2133720" cy="1977840"/>
          </a:xfrm>
          <a:prstGeom prst="rect">
            <a:avLst/>
          </a:prstGeom>
          <a:ln w="0">
            <a:noFill/>
          </a:ln>
        </p:spPr>
      </p:pic>
      <p:sp>
        <p:nvSpPr>
          <p:cNvPr id="2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413B-D00C-4821-A456-9A0B5BF0D3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ucleus of an Atom</a:t>
            </a:r>
            <a:endParaRPr b="0" lang="en-US" sz="4400" spc="-1" strike="noStrike">
              <a:solidFill>
                <a:srgbClr val="000000"/>
              </a:solidFill>
              <a:latin typeface="Arial"/>
            </a:endParaRPr>
          </a:p>
        </p:txBody>
      </p:sp>
      <p:sp>
        <p:nvSpPr>
          <p:cNvPr id="255" name="PlaceHolder 2"/>
          <p:cNvSpPr>
            <a:spLocks noGrp="1"/>
          </p:cNvSpPr>
          <p:nvPr>
            <p:ph/>
          </p:nvPr>
        </p:nvSpPr>
        <p:spPr>
          <a:xfrm>
            <a:off x="53352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ucleus</a:t>
            </a:r>
            <a:r>
              <a:rPr b="0" lang="en-US" sz="3200" spc="-1" strike="noStrike">
                <a:solidFill>
                  <a:srgbClr val="000000"/>
                </a:solidFill>
                <a:latin typeface="Calibri"/>
              </a:rPr>
              <a:t> - very small region located at the center of the atom.  The nucleus accounts for most of an atoms mass but very little volume, making it a very dense regio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us contains protons and neu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Picture 5" descr="is?499127425138"/>
          <p:cNvPicPr/>
          <p:nvPr/>
        </p:nvPicPr>
        <p:blipFill>
          <a:blip r:embed="rId1"/>
          <a:stretch/>
        </p:blipFill>
        <p:spPr>
          <a:xfrm>
            <a:off x="3124080" y="4718160"/>
            <a:ext cx="3124440" cy="2025720"/>
          </a:xfrm>
          <a:prstGeom prst="rect">
            <a:avLst/>
          </a:prstGeom>
          <a:ln w="0">
            <a:noFill/>
          </a:ln>
        </p:spPr>
      </p:pic>
      <p:sp>
        <p:nvSpPr>
          <p:cNvPr id="2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7F0B-E337-4CF8-96CC-8FDD276F14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56" dur="500"/>
                                        <p:tgtEl>
                                          <p:spTgt spid="255">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461" dur="5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ubatomic Particles</a:t>
            </a:r>
            <a:endParaRPr b="0" lang="en-US" sz="4400" spc="-1" strike="noStrike">
              <a:solidFill>
                <a:srgbClr val="000000"/>
              </a:solidFill>
              <a:latin typeface="Arial"/>
            </a:endParaRPr>
          </a:p>
        </p:txBody>
      </p:sp>
      <p:sp>
        <p:nvSpPr>
          <p:cNvPr id="259" name="PlaceHolder 2"/>
          <p:cNvSpPr>
            <a:spLocks noGrp="1"/>
          </p:cNvSpPr>
          <p:nvPr>
            <p:ph/>
          </p:nvPr>
        </p:nvSpPr>
        <p:spPr>
          <a:xfrm>
            <a:off x="533520" y="167616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otons</a:t>
            </a:r>
            <a:r>
              <a:rPr b="0" lang="en-US" sz="2800" spc="-1" strike="noStrike">
                <a:solidFill>
                  <a:srgbClr val="000000"/>
                </a:solidFill>
                <a:latin typeface="Calibri"/>
              </a:rPr>
              <a:t> -  positively charged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eutrons</a:t>
            </a:r>
            <a:r>
              <a:rPr b="0" lang="en-US" sz="2800" spc="-1" strike="noStrike">
                <a:solidFill>
                  <a:srgbClr val="000000"/>
                </a:solidFill>
                <a:latin typeface="Calibri"/>
              </a:rPr>
              <a:t> - neutral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lectrons</a:t>
            </a:r>
            <a:r>
              <a:rPr b="1" lang="en-US" sz="2800" spc="-1" strike="noStrike">
                <a:solidFill>
                  <a:srgbClr val="000000"/>
                </a:solidFill>
                <a:latin typeface="Calibri"/>
              </a:rPr>
              <a:t> </a:t>
            </a:r>
            <a:r>
              <a:rPr b="0" lang="en-US" sz="2800" spc="-1" strike="noStrike">
                <a:solidFill>
                  <a:srgbClr val="000000"/>
                </a:solidFill>
                <a:latin typeface="Calibri"/>
              </a:rPr>
              <a:t>-  negatively charged particles found in the electron clou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icture 7"/>
          <p:cNvSpPr/>
          <p:nvPr/>
        </p:nvSpPr>
        <p:spPr>
          <a:xfrm>
            <a:off x="4572000" y="4191120"/>
            <a:ext cx="297180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A22E-2AF2-4632-BEE1-CD2D659BD7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roperties of Subatomic Particles</a:t>
            </a:r>
            <a:endParaRPr b="0" lang="en-US" sz="4000" spc="-1" strike="noStrike">
              <a:solidFill>
                <a:srgbClr val="000000"/>
              </a:solidFill>
              <a:latin typeface="Arial"/>
            </a:endParaRPr>
          </a:p>
        </p:txBody>
      </p:sp>
      <p:graphicFrame>
        <p:nvGraphicFramePr>
          <p:cNvPr id="263" name=""/>
          <p:cNvGraphicFramePr/>
          <p:nvPr/>
        </p:nvGraphicFramePr>
        <p:xfrm>
          <a:off x="457200" y="1981080"/>
          <a:ext cx="8161200" cy="4103640"/>
        </p:xfrm>
        <a:graphic>
          <a:graphicData uri="http://schemas.openxmlformats.org/drawingml/2006/table">
            <a:tbl>
              <a:tblPr/>
              <a:tblGrid>
                <a:gridCol w="1303200"/>
                <a:gridCol w="1287720"/>
                <a:gridCol w="1218960"/>
                <a:gridCol w="914400"/>
                <a:gridCol w="1524240"/>
                <a:gridCol w="191268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m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Mass (am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Mass (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09 X 10</a:t>
                      </a:r>
                      <a:r>
                        <a:rPr b="0" lang="en-US" sz="2200" spc="-1" strike="noStrike" baseline="30000">
                          <a:solidFill>
                            <a:srgbClr val="000000"/>
                          </a:solidFill>
                          <a:latin typeface="Calibri"/>
                        </a:rPr>
                        <a:t>-2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72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3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8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5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A313-6EEF-4B47-AFC5-4B92F1B11F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5" name="Ink 40"/>
          <p:cNvSpPr/>
          <p:nvPr/>
        </p:nvSpPr>
        <p:spPr>
          <a:xfrm>
            <a:off x="946080" y="5680080"/>
            <a:ext cx="19080" cy="27000"/>
          </a:xfrm>
          <a:custGeom>
            <a:avLst/>
            <a:gdLst/>
            <a:ahLst/>
            <a:rect l="l" t="t" r="r" b="b"/>
            <a:pathLst>
              <a:path w="51" h="75">
                <a:moveTo>
                  <a:pt x="2629" y="15776"/>
                </a:moveTo>
                <a:cubicBezTo>
                  <a:pt x="2629" y="15831"/>
                  <a:pt x="2636" y="15818"/>
                  <a:pt x="2679" y="15850"/>
                </a:cubicBezTo>
              </a:path>
            </a:pathLst>
          </a:custGeom>
          <a:noFill/>
          <a:ln cap="rnd" w="1908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6" name="Ink 41"/>
          <p:cNvSpPr/>
          <p:nvPr/>
        </p:nvSpPr>
        <p:spPr>
          <a:xfrm>
            <a:off x="1044720" y="5643720"/>
            <a:ext cx="1440" cy="1440"/>
          </a:xfrm>
          <a:custGeom>
            <a:avLst/>
            <a:gdLst/>
            <a:ahLst/>
            <a:rect l="l" t="t" r="r" b="b"/>
            <a:pathLst>
              <a:path w="1" h="1">
                <a:moveTo>
                  <a:pt x="2902" y="15677"/>
                </a:moveTo>
                <a:lnTo>
                  <a:pt x="2902" y="15677"/>
                </a:lnTo>
              </a:path>
            </a:pathLst>
          </a:custGeom>
          <a:noFill/>
          <a:ln cap="rnd" w="1908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Ink 42"/>
          <p:cNvSpPr/>
          <p:nvPr/>
        </p:nvSpPr>
        <p:spPr>
          <a:xfrm>
            <a:off x="1187280" y="5554800"/>
            <a:ext cx="27000" cy="36360"/>
          </a:xfrm>
          <a:custGeom>
            <a:avLst/>
            <a:gdLst/>
            <a:ahLst/>
            <a:rect l="l" t="t" r="r" b="b"/>
            <a:pathLst>
              <a:path w="75" h="100">
                <a:moveTo>
                  <a:pt x="3349" y="15429"/>
                </a:moveTo>
                <a:cubicBezTo>
                  <a:pt x="3357" y="15429"/>
                  <a:pt x="3365" y="15429"/>
                  <a:pt x="3373" y="15429"/>
                </a:cubicBezTo>
                <a:cubicBezTo>
                  <a:pt x="3363" y="15458"/>
                  <a:pt x="3353" y="15471"/>
                  <a:pt x="3324" y="15503"/>
                </a:cubicBezTo>
                <a:cubicBezTo>
                  <a:pt x="3316" y="15511"/>
                  <a:pt x="3307" y="15520"/>
                  <a:pt x="3299" y="15528"/>
                </a:cubicBezTo>
              </a:path>
            </a:pathLst>
          </a:custGeom>
          <a:noFill/>
          <a:ln cap="rnd" w="19080">
            <a:solidFill>
              <a:srgbClr val="ffff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lectron Cloud of an Atom</a:t>
            </a:r>
            <a:endParaRPr b="0" lang="en-US" sz="4400" spc="-1" strike="noStrike">
              <a:solidFill>
                <a:srgbClr val="000000"/>
              </a:solidFill>
              <a:latin typeface="Arial"/>
            </a:endParaRPr>
          </a:p>
        </p:txBody>
      </p:sp>
      <p:sp>
        <p:nvSpPr>
          <p:cNvPr id="269"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the negatively charged region of the atom that accounts for most of the atoms volume but very little of the atom’s mas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composed of elec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Picture 5" descr="r?t=c&amp;s=p&amp;sv=0a300516&amp;uid=0BC1ACC9982C64134&amp;sid=3444474eb444474eb&amp;o=0&amp;id=30751&amp;p=%2Ffr&amp;u=http%3A%2F%2Fwwwfhjh"/>
          <p:cNvPicPr/>
          <p:nvPr/>
        </p:nvPicPr>
        <p:blipFill>
          <a:blip r:embed="rId1"/>
          <a:stretch/>
        </p:blipFill>
        <p:spPr>
          <a:xfrm>
            <a:off x="5562720" y="4572000"/>
            <a:ext cx="2057400" cy="2057400"/>
          </a:xfrm>
          <a:prstGeom prst="rect">
            <a:avLst/>
          </a:prstGeom>
          <a:ln w="0">
            <a:noFill/>
          </a:ln>
        </p:spPr>
      </p:pic>
      <p:sp>
        <p:nvSpPr>
          <p:cNvPr id="2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4BA5-5687-4BCC-BF0F-BAE7798A80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468" dur="500"/>
                                        <p:tgtEl>
                                          <p:spTgt spid="26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473"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 Metals</a:t>
            </a:r>
            <a:endParaRPr b="0" lang="en-US" sz="4300" spc="-1" strike="noStrike">
              <a:solidFill>
                <a:srgbClr val="000000"/>
              </a:solidFill>
              <a:latin typeface="Arial"/>
            </a:endParaRPr>
          </a:p>
        </p:txBody>
      </p:sp>
      <p:sp>
        <p:nvSpPr>
          <p:cNvPr id="124"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1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reactive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rely found in elemental form in natu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in oil to prevent them from reacting with th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for their vigorous (sometimes explosive) reaction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 (they can be cut easily)</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ion of sodium metal</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Lithium, Potassium, Sod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4C97-073B-479E-A3A3-B63B75381B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61" dur="500"/>
                                        <p:tgtEl>
                                          <p:spTgt spid="12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66" dur="500"/>
                                        <p:tgtEl>
                                          <p:spTgt spid="1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1" dur="500"/>
                                        <p:tgtEl>
                                          <p:spTgt spid="12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6" dur="500"/>
                                        <p:tgtEl>
                                          <p:spTgt spid="12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6" dur="500"/>
                                        <p:tgtEl>
                                          <p:spTgt spid="12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91" dur="500"/>
                                        <p:tgtEl>
                                          <p:spTgt spid="12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eutron</a:t>
            </a:r>
            <a:endParaRPr b="0" lang="en-US" sz="44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2, James Chadwick discovered the neutr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predicted that there were massive neutrally charged particles in the nucleus, but it was Chadwick who proved their existence.</a:t>
            </a:r>
            <a:endParaRPr b="0" lang="en-US" sz="3200" spc="-1" strike="noStrike">
              <a:solidFill>
                <a:srgbClr val="000000"/>
              </a:solidFill>
              <a:latin typeface="Arial"/>
            </a:endParaRPr>
          </a:p>
        </p:txBody>
      </p:sp>
      <p:pic>
        <p:nvPicPr>
          <p:cNvPr id="274" name="Picture 5" descr="After neutron emission, an atom contains one less neutron."/>
          <p:cNvPicPr/>
          <p:nvPr/>
        </p:nvPicPr>
        <p:blipFill>
          <a:blip r:embed="rId1"/>
          <a:stretch/>
        </p:blipFill>
        <p:spPr>
          <a:xfrm>
            <a:off x="3962520" y="4800600"/>
            <a:ext cx="4790880" cy="1731960"/>
          </a:xfrm>
          <a:prstGeom prst="rect">
            <a:avLst/>
          </a:prstGeom>
          <a:ln w="0">
            <a:noFill/>
          </a:ln>
        </p:spPr>
      </p:pic>
      <p:sp>
        <p:nvSpPr>
          <p:cNvPr id="2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5E1F-249D-45EF-97FF-4E8C1520C5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rces in the Nucleus</a:t>
            </a:r>
            <a:endParaRPr b="0" lang="en-US" sz="4000" spc="-1" strike="noStrike">
              <a:solidFill>
                <a:srgbClr val="000000"/>
              </a:solidFill>
              <a:latin typeface="Arial"/>
            </a:endParaRPr>
          </a:p>
        </p:txBody>
      </p:sp>
      <p:sp>
        <p:nvSpPr>
          <p:cNvPr id="27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nucleus contains protons (positively charged particles) &amp; neutrons (neutral particles) giving the nucleus an overall positive char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protons have positive charges, it would be assumed that they would repel one another when in close contact such as in the nucle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2 protons are close together in the nucleus there is actually a strong attraction</a:t>
            </a:r>
            <a:r>
              <a:rPr b="0" lang="en-US" sz="2400" spc="-1" strike="noStrike">
                <a:solidFill>
                  <a:srgbClr val="000000"/>
                </a:solidFill>
                <a:latin typeface="Arial"/>
              </a:rPr>
              <a:t> </a:t>
            </a:r>
            <a:r>
              <a:rPr b="0" lang="en-US" sz="2800" spc="-1" strike="noStrike">
                <a:solidFill>
                  <a:srgbClr val="000000"/>
                </a:solidFill>
                <a:latin typeface="Arial"/>
              </a:rPr>
              <a:t>between them.  The same holds true for neutrons.  </a:t>
            </a:r>
            <a:endParaRPr b="0" lang="en-US" sz="2800" spc="-1" strike="noStrike">
              <a:solidFill>
                <a:srgbClr val="000000"/>
              </a:solidFill>
              <a:latin typeface="Arial"/>
            </a:endParaRPr>
          </a:p>
        </p:txBody>
      </p:sp>
      <p:sp>
        <p:nvSpPr>
          <p:cNvPr id="27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2106-85F4-4587-90E9-F718E1A7EA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orces in the Nucleus</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ct like the “glue” that holds the nucleus together.  They help to stabilize the nucle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forces are the short-range proton-neutron, proton-proton, &amp; neutron-neutron forces that hold the nuclear particles together.</a:t>
            </a:r>
            <a:endParaRPr b="0" lang="en-US" sz="3200" spc="-1" strike="noStrike">
              <a:solidFill>
                <a:srgbClr val="000000"/>
              </a:solidFill>
              <a:latin typeface="Arial"/>
            </a:endParaRPr>
          </a:p>
        </p:txBody>
      </p:sp>
      <p:pic>
        <p:nvPicPr>
          <p:cNvPr id="281" name="Picture 5" descr="4 Forces; nuclear (strong) force picture.jpg"/>
          <p:cNvPicPr/>
          <p:nvPr/>
        </p:nvPicPr>
        <p:blipFill>
          <a:blip r:embed="rId1"/>
          <a:stretch/>
        </p:blipFill>
        <p:spPr>
          <a:xfrm>
            <a:off x="3886200" y="5029200"/>
            <a:ext cx="2209680" cy="1622520"/>
          </a:xfrm>
          <a:prstGeom prst="rect">
            <a:avLst/>
          </a:prstGeom>
          <a:ln w="0">
            <a:noFill/>
          </a:ln>
        </p:spPr>
      </p:pic>
      <p:sp>
        <p:nvSpPr>
          <p:cNvPr id="2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829B-E49A-4978-A409-1C279D577E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ne Earth Metals</a:t>
            </a:r>
            <a:endParaRPr b="0" lang="en-US" sz="43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2A on the periodic tab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strous (shin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ver or white color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ypically found in nature in elemental 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reactive than the alkali metals but more reactive than most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 with water, but not as vigorous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Magnesium, Calcium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35AD-7529-489D-B853-C47BF60BB7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08" dur="500"/>
                                        <p:tgtEl>
                                          <p:spTgt spid="12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13" dur="500"/>
                                        <p:tgtEl>
                                          <p:spTgt spid="12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18" dur="500"/>
                                        <p:tgtEl>
                                          <p:spTgt spid="127">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23" dur="500"/>
                                        <p:tgtEl>
                                          <p:spTgt spid="127">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28" dur="500"/>
                                        <p:tgtEl>
                                          <p:spTgt spid="127">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33" dur="500"/>
                                        <p:tgtEl>
                                          <p:spTgt spid="127">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38" dur="500"/>
                                        <p:tgtEl>
                                          <p:spTgt spid="127">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3" dur="500"/>
                                        <p:tgtEl>
                                          <p:spTgt spid="127">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8"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Carbon Family</a:t>
            </a:r>
            <a:endParaRPr b="0" lang="en-US" sz="43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4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 for germanium, all of these elements are familiar in daily life either as the pure element or in the form of compoun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rbon, Silicon, Tin, L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5468-2776-495F-B442-04EF014BDF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55" dur="500"/>
                                        <p:tgtEl>
                                          <p:spTgt spid="13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160" dur="500"/>
                                        <p:tgtEl>
                                          <p:spTgt spid="13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165"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Nitrogen Family</a:t>
            </a:r>
            <a:endParaRPr b="0" lang="en-US" sz="43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 5A on the periodic table</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itrogen is stable in elemental form, but can be reactive in compound form </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ral are very toxic – phosphorus, arsenic</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are harmful to the body and not easily processed by the liver</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are solid at room temperature except for nitrogen</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Nitrogen, Antimony, Arsenic</a:t>
            </a: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B873-D5D4-4A60-95EF-0A254C111A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72" dur="500"/>
                                        <p:tgtEl>
                                          <p:spTgt spid="13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77" dur="500"/>
                                        <p:tgtEl>
                                          <p:spTgt spid="133">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182" dur="500"/>
                                        <p:tgtEl>
                                          <p:spTgt spid="133">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87" dur="500"/>
                                        <p:tgtEl>
                                          <p:spTgt spid="133">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192" dur="500"/>
                                        <p:tgtEl>
                                          <p:spTgt spid="133">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33">
                                            <p:txEl>
                                              <p:pRg st="5" end="5"/>
                                            </p:txEl>
                                          </p:spTgt>
                                        </p:tgtEl>
                                        <p:attrNameLst>
                                          <p:attrName>style.visibility</p:attrName>
                                        </p:attrNameLst>
                                      </p:cBhvr>
                                      <p:to>
                                        <p:strVal val="visible"/>
                                      </p:to>
                                    </p:set>
                                    <p:animEffect filter="blinds(horizontal)" transition="in">
                                      <p:cBhvr additive="repl">
                                        <p:cTn id="197" dur="5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Oxygen Family</a:t>
            </a:r>
            <a:endParaRPr b="0" lang="en-US" sz="43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6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as mineral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xygen family is unique since the elements are quite differ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is a gaseous non-metal while sulfur is a solid non-metal</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xygen, sulfur, tellur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440A-1645-4FFB-8B23-C50D3AEE44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04" dur="500"/>
                                        <p:tgtEl>
                                          <p:spTgt spid="136">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09" dur="500"/>
                                        <p:tgtEl>
                                          <p:spTgt spid="136">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14" dur="500"/>
                                        <p:tgtEl>
                                          <p:spTgt spid="13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19" dur="500"/>
                                        <p:tgtEl>
                                          <p:spTgt spid="136">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36">
                                            <p:txEl>
                                              <p:pRg st="5" end="5"/>
                                            </p:txEl>
                                          </p:spTgt>
                                        </p:tgtEl>
                                        <p:attrNameLst>
                                          <p:attrName>style.visibility</p:attrName>
                                        </p:attrNameLst>
                                      </p:cBhvr>
                                      <p:to>
                                        <p:strVal val="visible"/>
                                      </p:to>
                                    </p:set>
                                    <p:animEffect filter="box(in)" transition="in">
                                      <p:cBhvr additive="repl">
                                        <p:cTn id="224"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Halogens</a:t>
            </a:r>
            <a:endParaRPr b="0" lang="en-US" sz="43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84000"/>
          </a:bodyPr>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7A on the periodic table</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metal element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reactive because they have seven electrons in their outer shell</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mful or lethal to organism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disinfectants to kill bacteria </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nature only as ions or in compound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fluorine, bromine, chlorine, iodine</a:t>
            </a:r>
            <a:endParaRPr b="0" lang="en-US" sz="3200" spc="-1" strike="noStrike">
              <a:solidFill>
                <a:srgbClr val="000000"/>
              </a:solidFill>
              <a:latin typeface="Arial"/>
            </a:endParaRPr>
          </a:p>
          <a:p>
            <a:pPr marL="28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6E09-7FE6-4D70-BF53-1919D64FDF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31" dur="500"/>
                                        <p:tgtEl>
                                          <p:spTgt spid="13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236" dur="500"/>
                                        <p:tgtEl>
                                          <p:spTgt spid="13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241" dur="500"/>
                                        <p:tgtEl>
                                          <p:spTgt spid="139">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46" dur="500"/>
                                        <p:tgtEl>
                                          <p:spTgt spid="139">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251" dur="500"/>
                                        <p:tgtEl>
                                          <p:spTgt spid="139">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256" dur="500"/>
                                        <p:tgtEl>
                                          <p:spTgt spid="139">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26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1:33:12Z</dcterms:created>
  <dc:creator/>
  <dc:description/>
  <dc:language>en-US</dc:language>
  <cp:lastModifiedBy> </cp:lastModifiedBy>
  <dcterms:modified xsi:type="dcterms:W3CDTF">2013-03-12T18:11:03Z</dcterms:modified>
  <cp:revision>480</cp:revision>
  <dc:subject/>
  <dc:title>Concept 3:  Atoms</dc:title>
</cp:coreProperties>
</file>